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589B-B12F-47F4-B42B-E79AFE757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4610-3A7B-4442-9B45-4B8224F48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ACAD-6664-4A9A-9774-23C814926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8C99-1F27-41FD-AC92-2CDF57EA0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1EC7-89E6-442D-B76A-99D1BB77E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06A4-4B64-4955-AF2D-E29029822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AA6A-DB8B-46D2-95ED-22885677A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8117-7851-4E13-91D1-EC7299339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19B6-B741-4DAB-9E0E-4F5C4377D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DED4-5A35-4328-94C3-F955F3CD0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1859-C87F-446E-9880-375B2BABE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30D9-CC77-40B7-8DF2-313437B8D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C81FD-DBEB-463D-A4C5-CBC6ECB29D7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691200"/>
            <a:ext cx="9143640" cy="5474160"/>
            <a:chOff x="0" y="691200"/>
            <a:chExt cx="9143640" cy="5474160"/>
          </a:xfrm>
        </p:grpSpPr>
        <p:cxnSp>
          <p:nvCxnSpPr>
            <p:cNvPr id="42" name="_s3602"/>
            <p:cNvCxnSpPr>
              <a:stCxn id="43" idx="1"/>
              <a:endCxn id="44" idx="2"/>
            </p:cNvCxnSpPr>
            <p:nvPr/>
          </p:nvCxnSpPr>
          <p:spPr>
            <a:xfrm rot="10800000">
              <a:off x="4251960" y="2780280"/>
              <a:ext cx="162720" cy="2880720"/>
            </a:xfrm>
            <a:prstGeom prst="bentConnector4">
              <a:avLst>
                <a:gd name="adj1" fmla="val 142572"/>
                <a:gd name="adj2" fmla="val 5376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5" name="_s3601"/>
            <p:cNvCxnSpPr>
              <a:stCxn id="46" idx="1"/>
              <a:endCxn id="44" idx="2"/>
            </p:cNvCxnSpPr>
            <p:nvPr/>
          </p:nvCxnSpPr>
          <p:spPr>
            <a:xfrm rot="10800000">
              <a:off x="4251960" y="2780640"/>
              <a:ext cx="162720" cy="1587960"/>
            </a:xfrm>
            <a:prstGeom prst="bentConnector4">
              <a:avLst>
                <a:gd name="adj1" fmla="val 142793"/>
                <a:gd name="adj2" fmla="val 544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7" name="_s3600"/>
            <p:cNvCxnSpPr>
              <a:stCxn id="48" idx="1"/>
              <a:endCxn id="49" idx="2"/>
            </p:cNvCxnSpPr>
            <p:nvPr/>
          </p:nvCxnSpPr>
          <p:spPr>
            <a:xfrm rot="10800000">
              <a:off x="8039520" y="3930120"/>
              <a:ext cx="158400" cy="975240"/>
            </a:xfrm>
            <a:prstGeom prst="bentConnector4">
              <a:avLst>
                <a:gd name="adj1" fmla="val 146697"/>
                <a:gd name="adj2" fmla="val 555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0" name="_s3598"/>
            <p:cNvCxnSpPr>
              <a:stCxn id="51" idx="1"/>
              <a:endCxn id="49" idx="2"/>
            </p:cNvCxnSpPr>
            <p:nvPr/>
          </p:nvCxnSpPr>
          <p:spPr>
            <a:xfrm rot="10800000">
              <a:off x="8039520" y="3929760"/>
              <a:ext cx="158400" cy="438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2" name="_s3596"/>
            <p:cNvCxnSpPr>
              <a:stCxn id="53" idx="1"/>
              <a:endCxn id="54" idx="2"/>
            </p:cNvCxnSpPr>
            <p:nvPr/>
          </p:nvCxnSpPr>
          <p:spPr>
            <a:xfrm rot="10800000">
              <a:off x="6779160" y="3929760"/>
              <a:ext cx="156600" cy="1406880"/>
            </a:xfrm>
            <a:prstGeom prst="bentConnector4">
              <a:avLst>
                <a:gd name="adj1" fmla="val 148387"/>
                <a:gd name="adj2" fmla="val 5382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5" name="_s3594"/>
            <p:cNvCxnSpPr>
              <a:stCxn id="56" idx="1"/>
              <a:endCxn id="54" idx="2"/>
            </p:cNvCxnSpPr>
            <p:nvPr/>
          </p:nvCxnSpPr>
          <p:spPr>
            <a:xfrm rot="10800000">
              <a:off x="6779160" y="3929760"/>
              <a:ext cx="156600" cy="938880"/>
            </a:xfrm>
            <a:prstGeom prst="bentConnector4">
              <a:avLst>
                <a:gd name="adj1" fmla="val 148387"/>
                <a:gd name="adj2" fmla="val 5772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" name="_s3592"/>
            <p:cNvCxnSpPr>
              <a:stCxn id="58" idx="1"/>
              <a:endCxn id="54" idx="2"/>
            </p:cNvCxnSpPr>
            <p:nvPr/>
          </p:nvCxnSpPr>
          <p:spPr>
            <a:xfrm rot="10800000">
              <a:off x="6779160" y="3929760"/>
              <a:ext cx="156600" cy="438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9" name="_s3590"/>
            <p:cNvCxnSpPr>
              <a:stCxn id="60" idx="1"/>
              <a:endCxn id="61" idx="2"/>
            </p:cNvCxnSpPr>
            <p:nvPr/>
          </p:nvCxnSpPr>
          <p:spPr>
            <a:xfrm rot="10800000">
              <a:off x="5518440" y="3929760"/>
              <a:ext cx="132480" cy="2091600"/>
            </a:xfrm>
            <a:prstGeom prst="bentConnector4">
              <a:avLst>
                <a:gd name="adj1" fmla="val 175476"/>
                <a:gd name="adj2" fmla="val 5345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2" name="_s3588"/>
            <p:cNvCxnSpPr>
              <a:stCxn id="63" idx="1"/>
              <a:endCxn id="61" idx="2"/>
            </p:cNvCxnSpPr>
            <p:nvPr/>
          </p:nvCxnSpPr>
          <p:spPr>
            <a:xfrm rot="10800000">
              <a:off x="5518800" y="3929760"/>
              <a:ext cx="158760" cy="938880"/>
            </a:xfrm>
            <a:prstGeom prst="bentConnector4">
              <a:avLst>
                <a:gd name="adj1" fmla="val 146363"/>
                <a:gd name="adj2" fmla="val 5772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4" name="_s3586"/>
            <p:cNvCxnSpPr>
              <a:stCxn id="65" idx="1"/>
              <a:endCxn id="61" idx="2"/>
            </p:cNvCxnSpPr>
            <p:nvPr/>
          </p:nvCxnSpPr>
          <p:spPr>
            <a:xfrm rot="10800000">
              <a:off x="5518800" y="3929760"/>
              <a:ext cx="158760" cy="438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6" name="_s3580"/>
            <p:cNvCxnSpPr>
              <a:stCxn id="67" idx="1"/>
              <a:endCxn id="68" idx="2"/>
            </p:cNvCxnSpPr>
            <p:nvPr/>
          </p:nvCxnSpPr>
          <p:spPr>
            <a:xfrm rot="10800000">
              <a:off x="2995200" y="3929760"/>
              <a:ext cx="157320" cy="1659600"/>
            </a:xfrm>
            <a:prstGeom prst="bentConnector4">
              <a:avLst>
                <a:gd name="adj1" fmla="val 147706"/>
                <a:gd name="adj2" fmla="val 5437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9" name="_s3578"/>
            <p:cNvCxnSpPr>
              <a:stCxn id="70" idx="1"/>
              <a:endCxn id="68" idx="2"/>
            </p:cNvCxnSpPr>
            <p:nvPr/>
          </p:nvCxnSpPr>
          <p:spPr>
            <a:xfrm rot="10800000">
              <a:off x="2995200" y="3930120"/>
              <a:ext cx="157320" cy="474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1" name="_s3576"/>
            <p:cNvCxnSpPr>
              <a:stCxn id="72" idx="1"/>
              <a:endCxn id="73" idx="2"/>
            </p:cNvCxnSpPr>
            <p:nvPr/>
          </p:nvCxnSpPr>
          <p:spPr>
            <a:xfrm rot="10800000">
              <a:off x="1733400" y="3930120"/>
              <a:ext cx="158400" cy="1551960"/>
            </a:xfrm>
            <a:prstGeom prst="bentConnector4">
              <a:avLst>
                <a:gd name="adj1" fmla="val 146469"/>
                <a:gd name="adj2" fmla="val 5348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4" name="_s3574"/>
            <p:cNvCxnSpPr>
              <a:stCxn id="75" idx="1"/>
              <a:endCxn id="73" idx="2"/>
            </p:cNvCxnSpPr>
            <p:nvPr/>
          </p:nvCxnSpPr>
          <p:spPr>
            <a:xfrm rot="10800000">
              <a:off x="1733400" y="3930120"/>
              <a:ext cx="158400" cy="474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6" name="_s3572"/>
            <p:cNvCxnSpPr>
              <a:stCxn id="77" idx="1"/>
              <a:endCxn id="78" idx="2"/>
            </p:cNvCxnSpPr>
            <p:nvPr/>
          </p:nvCxnSpPr>
          <p:spPr>
            <a:xfrm rot="10800000">
              <a:off x="472680" y="3929760"/>
              <a:ext cx="158040" cy="938880"/>
            </a:xfrm>
            <a:prstGeom prst="bentConnector4">
              <a:avLst>
                <a:gd name="adj1" fmla="val 147031"/>
                <a:gd name="adj2" fmla="val 5772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9" name="_s3570"/>
            <p:cNvCxnSpPr>
              <a:stCxn id="80" idx="1"/>
              <a:endCxn id="78" idx="2"/>
            </p:cNvCxnSpPr>
            <p:nvPr/>
          </p:nvCxnSpPr>
          <p:spPr>
            <a:xfrm rot="10800000">
              <a:off x="472680" y="3930120"/>
              <a:ext cx="158040" cy="474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1" name="_s3568"/>
            <p:cNvCxnSpPr>
              <a:stCxn id="49" idx="0"/>
              <a:endCxn id="44" idx="2"/>
            </p:cNvCxnSpPr>
            <p:nvPr/>
          </p:nvCxnSpPr>
          <p:spPr>
            <a:xfrm flipV="1" rot="16200000">
              <a:off x="5869440" y="1163160"/>
              <a:ext cx="553320" cy="3787920"/>
            </a:xfrm>
            <a:prstGeom prst="bentConnector3">
              <a:avLst>
                <a:gd name="adj1" fmla="val 500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2" name="_s3566"/>
            <p:cNvCxnSpPr>
              <a:stCxn id="54" idx="0"/>
              <a:endCxn id="44" idx="2"/>
            </p:cNvCxnSpPr>
            <p:nvPr/>
          </p:nvCxnSpPr>
          <p:spPr>
            <a:xfrm flipV="1" rot="16200000">
              <a:off x="5239080" y="1793520"/>
              <a:ext cx="553320" cy="2527200"/>
            </a:xfrm>
            <a:prstGeom prst="bentConnector3">
              <a:avLst>
                <a:gd name="adj1" fmla="val 500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3" name="_s3564"/>
            <p:cNvCxnSpPr>
              <a:stCxn id="61" idx="0"/>
              <a:endCxn id="44" idx="2"/>
            </p:cNvCxnSpPr>
            <p:nvPr/>
          </p:nvCxnSpPr>
          <p:spPr>
            <a:xfrm flipV="1" rot="16200000">
              <a:off x="4609080" y="2423880"/>
              <a:ext cx="553320" cy="1266840"/>
            </a:xfrm>
            <a:prstGeom prst="bentConnector3">
              <a:avLst>
                <a:gd name="adj1" fmla="val 500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4" name="_s3560"/>
            <p:cNvCxnSpPr>
              <a:stCxn id="68" idx="0"/>
              <a:endCxn id="44" idx="2"/>
            </p:cNvCxnSpPr>
            <p:nvPr/>
          </p:nvCxnSpPr>
          <p:spPr>
            <a:xfrm flipH="1" flipV="1" rot="5400000">
              <a:off x="3347280" y="2428560"/>
              <a:ext cx="553320" cy="1257480"/>
            </a:xfrm>
            <a:prstGeom prst="bentConnector3">
              <a:avLst>
                <a:gd name="adj1" fmla="val 500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5" name="_s3558"/>
            <p:cNvCxnSpPr>
              <a:stCxn id="73" idx="0"/>
              <a:endCxn id="44" idx="2"/>
            </p:cNvCxnSpPr>
            <p:nvPr/>
          </p:nvCxnSpPr>
          <p:spPr>
            <a:xfrm flipH="1" flipV="1" rot="5400000">
              <a:off x="2716560" y="1797840"/>
              <a:ext cx="553320" cy="2518920"/>
            </a:xfrm>
            <a:prstGeom prst="bentConnector3">
              <a:avLst>
                <a:gd name="adj1" fmla="val 500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6" name="_s3556"/>
            <p:cNvCxnSpPr>
              <a:stCxn id="78" idx="0"/>
              <a:endCxn id="44" idx="2"/>
            </p:cNvCxnSpPr>
            <p:nvPr/>
          </p:nvCxnSpPr>
          <p:spPr>
            <a:xfrm flipH="1" flipV="1" rot="5400000">
              <a:off x="2085840" y="1167480"/>
              <a:ext cx="553320" cy="3780000"/>
            </a:xfrm>
            <a:prstGeom prst="bentConnector3">
              <a:avLst>
                <a:gd name="adj1" fmla="val 500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7" name="_s3195"/>
            <p:cNvCxnSpPr>
              <a:stCxn id="88" idx="3"/>
              <a:endCxn id="89" idx="2"/>
            </p:cNvCxnSpPr>
            <p:nvPr/>
          </p:nvCxnSpPr>
          <p:spPr>
            <a:xfrm flipV="1">
              <a:off x="4078080" y="1051200"/>
              <a:ext cx="174600" cy="901440"/>
            </a:xfrm>
            <a:prstGeom prst="bentConnector4">
              <a:avLst>
                <a:gd name="adj1" fmla="val 132644"/>
                <a:gd name="adj2" fmla="val 5996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0" name="_s3193"/>
            <p:cNvCxnSpPr>
              <a:stCxn id="91" idx="1"/>
              <a:endCxn id="89" idx="2"/>
            </p:cNvCxnSpPr>
            <p:nvPr/>
          </p:nvCxnSpPr>
          <p:spPr>
            <a:xfrm rot="10800000">
              <a:off x="4252320" y="1050840"/>
              <a:ext cx="161640" cy="433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2" name="_s3191"/>
            <p:cNvCxnSpPr>
              <a:stCxn id="93" idx="3"/>
              <a:endCxn id="89" idx="2"/>
            </p:cNvCxnSpPr>
            <p:nvPr/>
          </p:nvCxnSpPr>
          <p:spPr>
            <a:xfrm flipV="1">
              <a:off x="4078080" y="1051200"/>
              <a:ext cx="174600" cy="433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4" name="_s3189"/>
            <p:cNvCxnSpPr>
              <a:stCxn id="44" idx="0"/>
              <a:endCxn id="89" idx="2"/>
            </p:cNvCxnSpPr>
            <p:nvPr/>
          </p:nvCxnSpPr>
          <p:spPr>
            <a:xfrm rot="16200000">
              <a:off x="3640320" y="1663200"/>
              <a:ext cx="1224720" cy="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9" name="_s3171"/>
            <p:cNvSpPr/>
            <p:nvPr/>
          </p:nvSpPr>
          <p:spPr>
            <a:xfrm>
              <a:off x="3779640" y="691200"/>
              <a:ext cx="945720" cy="36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inistr doprav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_s3188"/>
            <p:cNvSpPr/>
            <p:nvPr/>
          </p:nvSpPr>
          <p:spPr>
            <a:xfrm>
              <a:off x="3779640" y="2275560"/>
              <a:ext cx="945720" cy="50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. náměstek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ministra - státní tajemník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Úsek financí, ekonomiky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 fondů EU)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3190"/>
            <p:cNvSpPr/>
            <p:nvPr/>
          </p:nvSpPr>
          <p:spPr>
            <a:xfrm>
              <a:off x="3132360" y="1341360"/>
              <a:ext cx="945720" cy="285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002/0 Kabinet ministra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3192"/>
            <p:cNvSpPr/>
            <p:nvPr/>
          </p:nvSpPr>
          <p:spPr>
            <a:xfrm>
              <a:off x="4413600" y="1269000"/>
              <a:ext cx="945720" cy="43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040/0 Odbor auditu, 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kontroly a dozoru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3194"/>
            <p:cNvSpPr/>
            <p:nvPr/>
          </p:nvSpPr>
          <p:spPr>
            <a:xfrm>
              <a:off x="3132360" y="1772280"/>
              <a:ext cx="945720" cy="36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030/0 Odbor krizového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řízení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3555"/>
            <p:cNvSpPr/>
            <p:nvPr/>
          </p:nvSpPr>
          <p:spPr>
            <a:xfrm>
              <a:off x="0" y="3333600"/>
              <a:ext cx="945720" cy="59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Úsek drah, železniční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a kombinované doprav,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plavby a vodních cest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3557"/>
            <p:cNvSpPr/>
            <p:nvPr/>
          </p:nvSpPr>
          <p:spPr>
            <a:xfrm>
              <a:off x="1261080" y="3333600"/>
              <a:ext cx="945720" cy="59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Úsek pozemních komunikací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a civilního letectví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3559"/>
            <p:cNvSpPr/>
            <p:nvPr/>
          </p:nvSpPr>
          <p:spPr>
            <a:xfrm>
              <a:off x="2522520" y="3333600"/>
              <a:ext cx="945720" cy="59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Úsek agend vozidel,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řidičů a BESIP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3563"/>
            <p:cNvSpPr/>
            <p:nvPr/>
          </p:nvSpPr>
          <p:spPr>
            <a:xfrm>
              <a:off x="5046480" y="3333600"/>
              <a:ext cx="945000" cy="59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Úsek legislativy,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strategie a záležitostí EU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3565"/>
            <p:cNvSpPr/>
            <p:nvPr/>
          </p:nvSpPr>
          <p:spPr>
            <a:xfrm>
              <a:off x="6306840" y="3333600"/>
              <a:ext cx="944640" cy="59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Úsek personální a správní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3567"/>
            <p:cNvSpPr/>
            <p:nvPr/>
          </p:nvSpPr>
          <p:spPr>
            <a:xfrm>
              <a:off x="7567200" y="3333600"/>
              <a:ext cx="945720" cy="59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Úsek silniční a veřejné dopravy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3569"/>
            <p:cNvSpPr/>
            <p:nvPr/>
          </p:nvSpPr>
          <p:spPr>
            <a:xfrm>
              <a:off x="630360" y="4228560"/>
              <a:ext cx="945720" cy="35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200" rIns="522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30/1 Odbor drah, železniční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a kombinované dopravy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3571"/>
            <p:cNvSpPr/>
            <p:nvPr/>
          </p:nvSpPr>
          <p:spPr>
            <a:xfrm>
              <a:off x="630360" y="4723560"/>
              <a:ext cx="945720" cy="290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200" rIns="522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230/1 Odbor plavby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a vodních cest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3573"/>
            <p:cNvSpPr/>
            <p:nvPr/>
          </p:nvSpPr>
          <p:spPr>
            <a:xfrm>
              <a:off x="1891800" y="4228560"/>
              <a:ext cx="945720" cy="35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200" rIns="522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20/2 Odbor pozemních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komunikací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3575"/>
            <p:cNvSpPr/>
            <p:nvPr/>
          </p:nvSpPr>
          <p:spPr>
            <a:xfrm>
              <a:off x="1891800" y="5374080"/>
              <a:ext cx="944640" cy="21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220/2 Odbor civilního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letectví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3577"/>
            <p:cNvSpPr/>
            <p:nvPr/>
          </p:nvSpPr>
          <p:spPr>
            <a:xfrm>
              <a:off x="3152160" y="4228560"/>
              <a:ext cx="945720" cy="35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50/3 Odbor schvalování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vozidel a předpisů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3579"/>
            <p:cNvSpPr/>
            <p:nvPr/>
          </p:nvSpPr>
          <p:spPr>
            <a:xfrm>
              <a:off x="3152160" y="5444640"/>
              <a:ext cx="945720" cy="289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60/3 Odbor agend řidičů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3581"/>
            <p:cNvSpPr/>
            <p:nvPr/>
          </p:nvSpPr>
          <p:spPr>
            <a:xfrm>
              <a:off x="4414680" y="4228560"/>
              <a:ext cx="945720" cy="27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410/4 Odbor financí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a ekonomiky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_s3583"/>
            <p:cNvSpPr/>
            <p:nvPr/>
          </p:nvSpPr>
          <p:spPr>
            <a:xfrm>
              <a:off x="4414680" y="5444640"/>
              <a:ext cx="944640" cy="433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430/4 Odbor fondů EU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3585"/>
            <p:cNvSpPr/>
            <p:nvPr/>
          </p:nvSpPr>
          <p:spPr>
            <a:xfrm>
              <a:off x="5677200" y="4228560"/>
              <a:ext cx="943560" cy="27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510/5 Odbor legislativy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3587"/>
            <p:cNvSpPr/>
            <p:nvPr/>
          </p:nvSpPr>
          <p:spPr>
            <a:xfrm>
              <a:off x="5677200" y="4723560"/>
              <a:ext cx="943560" cy="290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520/5 Odbor strategi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3589"/>
            <p:cNvSpPr/>
            <p:nvPr/>
          </p:nvSpPr>
          <p:spPr>
            <a:xfrm>
              <a:off x="5650920" y="5877720"/>
              <a:ext cx="945000" cy="28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530/5 Odbor pro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záležitosti EU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3591"/>
            <p:cNvSpPr/>
            <p:nvPr/>
          </p:nvSpPr>
          <p:spPr>
            <a:xfrm>
              <a:off x="6935400" y="4228560"/>
              <a:ext cx="945720" cy="27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010/6 Odbor personální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a organizační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3593"/>
            <p:cNvSpPr/>
            <p:nvPr/>
          </p:nvSpPr>
          <p:spPr>
            <a:xfrm>
              <a:off x="6935400" y="4723560"/>
              <a:ext cx="945720" cy="290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330/6 Odbor informačních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systémů a komunikací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3595"/>
            <p:cNvSpPr/>
            <p:nvPr/>
          </p:nvSpPr>
          <p:spPr>
            <a:xfrm>
              <a:off x="6935400" y="5229000"/>
              <a:ext cx="945720" cy="21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420/6 Odbor vnitřní správy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3597"/>
            <p:cNvSpPr/>
            <p:nvPr/>
          </p:nvSpPr>
          <p:spPr>
            <a:xfrm>
              <a:off x="8197920" y="4228560"/>
              <a:ext cx="945720" cy="27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10/7 Odbor silniční dopravy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3599"/>
            <p:cNvSpPr/>
            <p:nvPr/>
          </p:nvSpPr>
          <p:spPr>
            <a:xfrm>
              <a:off x="8197920" y="4796280"/>
              <a:ext cx="945000" cy="217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90/7 Odbor veřejné dopravy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 flipH="1">
            <a:off x="324000" y="4508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4508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00000" y="5013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5084640"/>
            <a:ext cx="122400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1 orgán státní správy –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Státní plavební správ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1 organiz. složka  státu –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Ředitelství vodních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cest  Č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5280" y="5877000"/>
            <a:ext cx="122400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 organizace státní správ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rážní úřad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rážní inspek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/>
          <p:nvPr/>
        </p:nvCxnSpPr>
        <p:spPr>
          <a:xfrm flipV="1" rot="16200000">
            <a:off x="178920" y="5949000"/>
            <a:ext cx="361080" cy="72000"/>
          </a:xfrm>
          <a:prstGeom prst="bentConnector3">
            <a:avLst>
              <a:gd name="adj1" fmla="val 497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1" name=""/>
          <p:cNvSpPr/>
          <p:nvPr/>
        </p:nvSpPr>
        <p:spPr>
          <a:xfrm>
            <a:off x="2195640" y="4581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08000" y="4653000"/>
            <a:ext cx="93528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 příspěvkov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rganiza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Ředitelství siln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 dálnic Č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24000" y="5589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63640" y="5734080"/>
            <a:ext cx="129564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1 orgán státní správ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Úřad pro civilní letectv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1 org. složka stát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Ústav pro odborně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technické zjišťován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příčin leteckých neho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19640" y="4581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32000" y="4724280"/>
            <a:ext cx="100836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 příspěvková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rganiza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entrum služeb p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ilniční doprav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40360" y="5013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651640" y="5157720"/>
            <a:ext cx="1008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 příspěvkov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rganiza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entrum dopravníh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výzkum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4508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56000" y="4653000"/>
            <a:ext cx="1079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 organizační složk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tátu - Stavebn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bnova železnic Č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249120"/>
            <a:ext cx="2736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rganizační schéma kapitoly k 31.12.2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723800" y="247680"/>
            <a:ext cx="771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říloh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č.  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09:39:14Z</dcterms:created>
  <dc:creator>XXXXX;XXXXX;XXXXX</dc:creator>
  <dc:description/>
  <dc:language>en-US</dc:language>
  <cp:lastModifiedBy>Ing. Stanislav Bočánek;O410;972231401</cp:lastModifiedBy>
  <dcterms:modified xsi:type="dcterms:W3CDTF">2006-02-28T15:12:38Z</dcterms:modified>
  <cp:revision>105</cp:revision>
  <dc:subject/>
  <dc:title>Snímek 1</dc:title>
</cp:coreProperties>
</file>