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4567-74E3-4ED4-B97B-3E4C082BE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9415-74CE-4BC0-9A05-7E395B357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C7CC-0A24-4363-B5C5-AF2036A70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4333-791B-47AB-A81E-0E71A6A27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ADC6-5B68-4142-A282-A16C2833C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5444-F928-4FD9-B145-45E0B2CCF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4AFC-CF6A-49C2-B0BB-D05E80B68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08EE-4B50-4FF7-9209-ACF01CB0A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5E8B-E2C7-4FC6-9C96-032CC98AC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F55F-720E-4F1A-B98E-81D2F3F7A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D7AB-4034-4DAA-B09E-72FE06901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CEB3-5B81-459B-BBF0-24801B8DB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4920"/>
            <a:ext cx="2131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4880" y="6244920"/>
            <a:ext cx="2131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91A29-A447-4D11-A060-2C713F3DC5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327480" y="-39600"/>
            <a:ext cx="183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611280" y="907200"/>
            <a:ext cx="8029080" cy="4955040"/>
            <a:chOff x="611280" y="907200"/>
            <a:chExt cx="8029080" cy="4955040"/>
          </a:xfrm>
        </p:grpSpPr>
        <p:cxnSp>
          <p:nvCxnSpPr>
            <p:cNvPr id="43" name="_s3793"/>
            <p:cNvCxnSpPr/>
            <p:nvPr/>
          </p:nvCxnSpPr>
          <p:spPr>
            <a:xfrm flipV="1" rot="10800000">
              <a:off x="6261480" y="3329280"/>
              <a:ext cx="2880" cy="297360"/>
            </a:xfrm>
            <a:prstGeom prst="bentConnector2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</p:cxnSp>
        <p:cxnSp>
          <p:nvCxnSpPr>
            <p:cNvPr id="44" name="_s3787"/>
            <p:cNvCxnSpPr/>
            <p:nvPr/>
          </p:nvCxnSpPr>
          <p:spPr>
            <a:xfrm flipV="1">
              <a:off x="4606200" y="3329280"/>
              <a:ext cx="3673080" cy="2880"/>
            </a:xfrm>
            <a:prstGeom prst="bentConnector3">
              <a:avLst>
                <a:gd name="adj1" fmla="val 3107"/>
              </a:avLst>
            </a:prstGeom>
            <a:ln w="28440">
              <a:solidFill>
                <a:srgbClr val="000000"/>
              </a:solidFill>
              <a:prstDash val="sysDot"/>
              <a:miter/>
            </a:ln>
          </p:spPr>
        </p:cxnSp>
        <p:cxnSp>
          <p:nvCxnSpPr>
            <p:cNvPr id="45" name="_s3785"/>
            <p:cNvCxnSpPr/>
            <p:nvPr/>
          </p:nvCxnSpPr>
          <p:spPr>
            <a:xfrm flipV="1">
              <a:off x="2230560" y="3329280"/>
              <a:ext cx="1440" cy="297360"/>
            </a:xfrm>
            <a:prstGeom prst="bentConnector2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</p:cxnSp>
        <p:cxnSp>
          <p:nvCxnSpPr>
            <p:cNvPr id="46" name="_s3783"/>
            <p:cNvCxnSpPr/>
            <p:nvPr/>
          </p:nvCxnSpPr>
          <p:spPr>
            <a:xfrm flipV="1">
              <a:off x="1150920" y="3329280"/>
              <a:ext cx="1440" cy="299520"/>
            </a:xfrm>
            <a:prstGeom prst="bentConnector2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</p:cxnSp>
        <p:cxnSp>
          <p:nvCxnSpPr>
            <p:cNvPr id="47" name="_s3756"/>
            <p:cNvCxnSpPr>
              <a:stCxn id="48" idx="0"/>
              <a:endCxn id="49" idx="0"/>
            </p:cNvCxnSpPr>
            <p:nvPr/>
          </p:nvCxnSpPr>
          <p:spPr>
            <a:xfrm>
              <a:off x="4140360" y="1341360"/>
              <a:ext cx="2898360" cy="574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0" name="_s3757"/>
            <p:cNvCxnSpPr/>
            <p:nvPr/>
          </p:nvCxnSpPr>
          <p:spPr>
            <a:xfrm flipV="1">
              <a:off x="1079640" y="2897280"/>
              <a:ext cx="1440" cy="7466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1" name="_s3758"/>
            <p:cNvCxnSpPr/>
            <p:nvPr/>
          </p:nvCxnSpPr>
          <p:spPr>
            <a:xfrm flipV="1">
              <a:off x="2159280" y="2880000"/>
              <a:ext cx="1440" cy="748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2" name="_s3759"/>
            <p:cNvCxnSpPr/>
            <p:nvPr/>
          </p:nvCxnSpPr>
          <p:spPr>
            <a:xfrm flipH="1" flipV="1" rot="5400000">
              <a:off x="4751280" y="1807560"/>
              <a:ext cx="217440" cy="1800"/>
            </a:xfrm>
            <a:prstGeom prst="bentConnector3">
              <a:avLst>
                <a:gd name="adj1" fmla="val 10281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3" name="_s3760"/>
            <p:cNvCxnSpPr/>
            <p:nvPr/>
          </p:nvCxnSpPr>
          <p:spPr>
            <a:xfrm flipV="1">
              <a:off x="3095280" y="2880360"/>
              <a:ext cx="1800" cy="7466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4" name="_s3762"/>
            <p:cNvCxnSpPr/>
            <p:nvPr/>
          </p:nvCxnSpPr>
          <p:spPr>
            <a:xfrm flipH="1" flipV="1" rot="5400000">
              <a:off x="5831640" y="3256200"/>
              <a:ext cx="720720" cy="2520"/>
            </a:xfrm>
            <a:prstGeom prst="bentConnector3">
              <a:avLst>
                <a:gd name="adj1" fmla="val 1584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5" name="_s3763"/>
            <p:cNvCxnSpPr/>
            <p:nvPr/>
          </p:nvCxnSpPr>
          <p:spPr>
            <a:xfrm rot="5400000">
              <a:off x="4752720" y="3255480"/>
              <a:ext cx="718560" cy="2520"/>
            </a:xfrm>
            <a:prstGeom prst="bentConnector3">
              <a:avLst>
                <a:gd name="adj1" fmla="val 1588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6" name="_s3764"/>
            <p:cNvCxnSpPr/>
            <p:nvPr/>
          </p:nvCxnSpPr>
          <p:spPr>
            <a:xfrm flipV="1" rot="10800000">
              <a:off x="7127640" y="2897280"/>
              <a:ext cx="1800" cy="718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7" name="_s3765"/>
            <p:cNvCxnSpPr>
              <a:stCxn id="58" idx="0"/>
            </p:cNvCxnSpPr>
            <p:nvPr/>
          </p:nvCxnSpPr>
          <p:spPr>
            <a:xfrm flipV="1" rot="16200000">
              <a:off x="4266360" y="-290160"/>
              <a:ext cx="718920" cy="7093800"/>
            </a:xfrm>
            <a:prstGeom prst="bentConnector3">
              <a:avLst>
                <a:gd name="adj1" fmla="val 6613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9" name="_s3766"/>
            <p:cNvCxnSpPr/>
            <p:nvPr/>
          </p:nvCxnSpPr>
          <p:spPr>
            <a:xfrm flipH="1" flipV="1" rot="5400000">
              <a:off x="5832720" y="1807200"/>
              <a:ext cx="217440" cy="288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0" name="_s3767"/>
            <p:cNvCxnSpPr/>
            <p:nvPr/>
          </p:nvCxnSpPr>
          <p:spPr>
            <a:xfrm rot="10800000">
              <a:off x="1150200" y="3328920"/>
              <a:ext cx="2520000" cy="2880"/>
            </a:xfrm>
            <a:prstGeom prst="bentConnector3">
              <a:avLst>
                <a:gd name="adj1" fmla="val 4529"/>
              </a:avLst>
            </a:prstGeom>
            <a:ln w="28440">
              <a:solidFill>
                <a:srgbClr val="000000"/>
              </a:solidFill>
              <a:prstDash val="sysDot"/>
              <a:miter/>
            </a:ln>
          </p:spPr>
        </p:cxnSp>
        <p:sp>
          <p:nvSpPr>
            <p:cNvPr id="61" name="_s3768"/>
            <p:cNvSpPr/>
            <p:nvPr/>
          </p:nvSpPr>
          <p:spPr>
            <a:xfrm>
              <a:off x="3635280" y="907200"/>
              <a:ext cx="945720" cy="401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Ministr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dopravy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_s3769"/>
            <p:cNvSpPr/>
            <p:nvPr/>
          </p:nvSpPr>
          <p:spPr>
            <a:xfrm>
              <a:off x="3670200" y="3067560"/>
              <a:ext cx="945720" cy="578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00/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1. náměstek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ministra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kce  fondů EU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_s3770"/>
            <p:cNvSpPr/>
            <p:nvPr/>
          </p:nvSpPr>
          <p:spPr>
            <a:xfrm>
              <a:off x="1654560" y="3628440"/>
              <a:ext cx="945720" cy="615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500/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Náměstek ministr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kce legislativy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_s3771"/>
            <p:cNvSpPr/>
            <p:nvPr/>
          </p:nvSpPr>
          <p:spPr>
            <a:xfrm>
              <a:off x="2661840" y="3628440"/>
              <a:ext cx="945720" cy="615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600/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Vrchní ředite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kce personální,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právní,financí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 ekonomiky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_s3772"/>
            <p:cNvSpPr/>
            <p:nvPr/>
          </p:nvSpPr>
          <p:spPr>
            <a:xfrm>
              <a:off x="4677840" y="3615840"/>
              <a:ext cx="947160" cy="61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400/2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Náměstek ministr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kce drážní 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vodní  dopravy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_s3773"/>
            <p:cNvSpPr/>
            <p:nvPr/>
          </p:nvSpPr>
          <p:spPr>
            <a:xfrm>
              <a:off x="5688720" y="3615840"/>
              <a:ext cx="945720" cy="617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900/2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Vrchní ředitel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kce infrastruktury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_s3774"/>
            <p:cNvSpPr/>
            <p:nvPr/>
          </p:nvSpPr>
          <p:spPr>
            <a:xfrm>
              <a:off x="6695640" y="3615840"/>
              <a:ext cx="945720" cy="614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700/2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Vrchní ředite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kce strategie,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veřejné dopravy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 ekologi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_s3776"/>
            <p:cNvSpPr/>
            <p:nvPr/>
          </p:nvSpPr>
          <p:spPr>
            <a:xfrm>
              <a:off x="7704360" y="3615840"/>
              <a:ext cx="936000" cy="595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200/2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Náměstek ministr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kce silniční </a:t>
              </a:r>
              <a:br>
                <a:rPr sz="600"/>
              </a:b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 letecké dopravy,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řidičů a vozide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_s3777"/>
            <p:cNvSpPr/>
            <p:nvPr/>
          </p:nvSpPr>
          <p:spPr>
            <a:xfrm>
              <a:off x="6588360" y="1915200"/>
              <a:ext cx="900000" cy="62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040/0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Odbor auditu, 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kontroly a dozoru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_s3778"/>
            <p:cNvSpPr/>
            <p:nvPr/>
          </p:nvSpPr>
          <p:spPr>
            <a:xfrm>
              <a:off x="4427280" y="1915200"/>
              <a:ext cx="945720" cy="618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002/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Kabinet ministr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_s3779"/>
            <p:cNvSpPr/>
            <p:nvPr/>
          </p:nvSpPr>
          <p:spPr>
            <a:xfrm>
              <a:off x="5508720" y="1915200"/>
              <a:ext cx="945720" cy="618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030/0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Odbor krizového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řízení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_s3780"/>
            <p:cNvSpPr/>
            <p:nvPr/>
          </p:nvSpPr>
          <p:spPr>
            <a:xfrm>
              <a:off x="611280" y="3628440"/>
              <a:ext cx="945720" cy="61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800/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Náměstek ministr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kce právní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_s3782"/>
            <p:cNvSpPr/>
            <p:nvPr/>
          </p:nvSpPr>
          <p:spPr>
            <a:xfrm>
              <a:off x="2950920" y="4422240"/>
              <a:ext cx="945720" cy="61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_s3784"/>
            <p:cNvSpPr/>
            <p:nvPr/>
          </p:nvSpPr>
          <p:spPr>
            <a:xfrm>
              <a:off x="2661840" y="4396320"/>
              <a:ext cx="945720" cy="61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_s3786"/>
            <p:cNvSpPr/>
            <p:nvPr/>
          </p:nvSpPr>
          <p:spPr>
            <a:xfrm>
              <a:off x="6766920" y="5245200"/>
              <a:ext cx="946800" cy="61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_s3792"/>
            <p:cNvSpPr/>
            <p:nvPr/>
          </p:nvSpPr>
          <p:spPr>
            <a:xfrm>
              <a:off x="6695640" y="4396320"/>
              <a:ext cx="945720" cy="61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5" name="_s1028"/>
            <p:cNvCxnSpPr/>
            <p:nvPr/>
          </p:nvCxnSpPr>
          <p:spPr>
            <a:xfrm flipV="1">
              <a:off x="7199640" y="3329280"/>
              <a:ext cx="1440" cy="299520"/>
            </a:xfrm>
            <a:prstGeom prst="bentConnector2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</p:cxnSp>
        <p:cxnSp>
          <p:nvCxnSpPr>
            <p:cNvPr id="76" name="_s1028"/>
            <p:cNvCxnSpPr/>
            <p:nvPr/>
          </p:nvCxnSpPr>
          <p:spPr>
            <a:xfrm flipV="1">
              <a:off x="5183640" y="3329280"/>
              <a:ext cx="1440" cy="286560"/>
            </a:xfrm>
            <a:prstGeom prst="bentConnector2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</p:cxnSp>
        <p:cxnSp>
          <p:nvCxnSpPr>
            <p:cNvPr id="77" name="_s1031"/>
            <p:cNvCxnSpPr/>
            <p:nvPr/>
          </p:nvCxnSpPr>
          <p:spPr>
            <a:xfrm flipV="1">
              <a:off x="3166560" y="3329280"/>
              <a:ext cx="2880" cy="297360"/>
            </a:xfrm>
            <a:prstGeom prst="bentConnector2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</p:cxnSp>
        <p:sp>
          <p:nvSpPr>
            <p:cNvPr id="78" name=""/>
            <p:cNvSpPr/>
            <p:nvPr/>
          </p:nvSpPr>
          <p:spPr>
            <a:xfrm>
              <a:off x="719280" y="4507920"/>
              <a:ext cx="3672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Ú S E K   P O D P Ů R N Ý C H   S E K C Í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9" name="_s1029"/>
            <p:cNvCxnSpPr/>
            <p:nvPr/>
          </p:nvCxnSpPr>
          <p:spPr>
            <a:xfrm flipV="1" rot="10800000">
              <a:off x="8278560" y="3329280"/>
              <a:ext cx="1440" cy="297360"/>
            </a:xfrm>
            <a:prstGeom prst="bentConnector2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</p:cxnSp>
      </p:grpSp>
      <p:sp>
        <p:nvSpPr>
          <p:cNvPr id="80" name=""/>
          <p:cNvSpPr/>
          <p:nvPr/>
        </p:nvSpPr>
        <p:spPr>
          <a:xfrm>
            <a:off x="4140360" y="1341360"/>
            <a:ext cx="0" cy="17272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8604360" y="443664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4643280" y="443664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643280" y="4797360"/>
            <a:ext cx="396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932360" y="4508640"/>
            <a:ext cx="367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Ú S E K   D O P R A V N Í C H   S E K C Í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4500720" y="443664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611280" y="443664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11280" y="4797360"/>
            <a:ext cx="388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333360"/>
            <a:ext cx="8280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ganizační schéma kapitoly k 31.12.2006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říloha č.  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očet stran 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138240" y="5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395280" y="971640"/>
            <a:ext cx="8569080" cy="5371560"/>
            <a:chOff x="395280" y="971640"/>
            <a:chExt cx="8569080" cy="5371560"/>
          </a:xfrm>
        </p:grpSpPr>
        <p:cxnSp>
          <p:nvCxnSpPr>
            <p:cNvPr id="263" name="_s42033"/>
            <p:cNvCxnSpPr>
              <a:stCxn id="264" idx="1"/>
              <a:endCxn id="265" idx="2"/>
            </p:cNvCxnSpPr>
            <p:nvPr/>
          </p:nvCxnSpPr>
          <p:spPr>
            <a:xfrm rot="10800000">
              <a:off x="7536960" y="3119400"/>
              <a:ext cx="203400" cy="2149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66" name="_s42031"/>
            <p:cNvCxnSpPr>
              <a:stCxn id="267" idx="1"/>
              <a:endCxn id="265" idx="2"/>
            </p:cNvCxnSpPr>
            <p:nvPr/>
          </p:nvCxnSpPr>
          <p:spPr>
            <a:xfrm rot="10800000">
              <a:off x="7536960" y="3119400"/>
              <a:ext cx="203400" cy="1343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68" name="_s42029"/>
            <p:cNvCxnSpPr>
              <a:stCxn id="269" idx="1"/>
              <a:endCxn id="265" idx="2"/>
            </p:cNvCxnSpPr>
            <p:nvPr/>
          </p:nvCxnSpPr>
          <p:spPr>
            <a:xfrm rot="10800000">
              <a:off x="7536960" y="3119400"/>
              <a:ext cx="203400" cy="537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70" name="_s42027"/>
            <p:cNvCxnSpPr>
              <a:stCxn id="271" idx="1"/>
              <a:endCxn id="272" idx="2"/>
            </p:cNvCxnSpPr>
            <p:nvPr/>
          </p:nvCxnSpPr>
          <p:spPr>
            <a:xfrm rot="10800000">
              <a:off x="5904720" y="3119400"/>
              <a:ext cx="203400" cy="2149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73" name="_s42025"/>
            <p:cNvCxnSpPr>
              <a:stCxn id="274" idx="1"/>
              <a:endCxn id="272" idx="2"/>
            </p:cNvCxnSpPr>
            <p:nvPr/>
          </p:nvCxnSpPr>
          <p:spPr>
            <a:xfrm rot="10800000">
              <a:off x="5904720" y="3119400"/>
              <a:ext cx="203400" cy="1343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75" name="_s42023"/>
            <p:cNvCxnSpPr>
              <a:stCxn id="276" idx="1"/>
              <a:endCxn id="272" idx="2"/>
            </p:cNvCxnSpPr>
            <p:nvPr/>
          </p:nvCxnSpPr>
          <p:spPr>
            <a:xfrm rot="10800000">
              <a:off x="5904720" y="3119400"/>
              <a:ext cx="203400" cy="537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77" name="_s42018"/>
            <p:cNvCxnSpPr>
              <a:stCxn id="265" idx="0"/>
              <a:endCxn id="278" idx="2"/>
            </p:cNvCxnSpPr>
            <p:nvPr/>
          </p:nvCxnSpPr>
          <p:spPr>
            <a:xfrm flipV="1" rot="16200000">
              <a:off x="5366880" y="412560"/>
              <a:ext cx="1074960" cy="3266280"/>
            </a:xfrm>
            <a:prstGeom prst="bentConnector3">
              <a:avLst>
                <a:gd name="adj1" fmla="val 1061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79" name="_s42016"/>
            <p:cNvCxnSpPr>
              <a:stCxn id="272" idx="0"/>
              <a:endCxn id="278" idx="2"/>
            </p:cNvCxnSpPr>
            <p:nvPr/>
          </p:nvCxnSpPr>
          <p:spPr>
            <a:xfrm flipV="1" rot="16200000">
              <a:off x="4550760" y="1228680"/>
              <a:ext cx="1074960" cy="1634040"/>
            </a:xfrm>
            <a:prstGeom prst="bentConnector3">
              <a:avLst>
                <a:gd name="adj1" fmla="val 1061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0" name="_s42014"/>
            <p:cNvCxnSpPr>
              <a:stCxn id="281" idx="3"/>
              <a:endCxn id="278" idx="2"/>
            </p:cNvCxnSpPr>
            <p:nvPr/>
          </p:nvCxnSpPr>
          <p:spPr>
            <a:xfrm flipV="1">
              <a:off x="4067640" y="1508400"/>
              <a:ext cx="204480" cy="537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2" name="_s41989"/>
            <p:cNvCxnSpPr>
              <a:stCxn id="283" idx="1"/>
              <a:endCxn id="284" idx="2"/>
            </p:cNvCxnSpPr>
            <p:nvPr/>
          </p:nvCxnSpPr>
          <p:spPr>
            <a:xfrm rot="10800000">
              <a:off x="4271040" y="3119400"/>
              <a:ext cx="203040" cy="29552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5" name="_s41990"/>
            <p:cNvCxnSpPr>
              <a:stCxn id="286" idx="1"/>
              <a:endCxn id="284" idx="2"/>
            </p:cNvCxnSpPr>
            <p:nvPr/>
          </p:nvCxnSpPr>
          <p:spPr>
            <a:xfrm rot="10800000">
              <a:off x="4271040" y="3119400"/>
              <a:ext cx="203040" cy="2149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7" name="_s41991"/>
            <p:cNvCxnSpPr>
              <a:stCxn id="288" idx="1"/>
              <a:endCxn id="289" idx="2"/>
            </p:cNvCxnSpPr>
            <p:nvPr/>
          </p:nvCxnSpPr>
          <p:spPr>
            <a:xfrm rot="10800000">
              <a:off x="1006560" y="3119400"/>
              <a:ext cx="204480" cy="1343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90" name="_s41992"/>
            <p:cNvCxnSpPr>
              <a:stCxn id="291" idx="1"/>
              <a:endCxn id="284" idx="2"/>
            </p:cNvCxnSpPr>
            <p:nvPr/>
          </p:nvCxnSpPr>
          <p:spPr>
            <a:xfrm rot="10800000">
              <a:off x="4271040" y="3119400"/>
              <a:ext cx="203040" cy="1341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92" name="_s41993"/>
            <p:cNvCxnSpPr>
              <a:stCxn id="293" idx="1"/>
              <a:endCxn id="284" idx="2"/>
            </p:cNvCxnSpPr>
            <p:nvPr/>
          </p:nvCxnSpPr>
          <p:spPr>
            <a:xfrm rot="10800000">
              <a:off x="4271040" y="3119400"/>
              <a:ext cx="203040" cy="537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94" name="_s41994"/>
            <p:cNvCxnSpPr>
              <a:stCxn id="295" idx="1"/>
              <a:endCxn id="296" idx="2"/>
            </p:cNvCxnSpPr>
            <p:nvPr/>
          </p:nvCxnSpPr>
          <p:spPr>
            <a:xfrm rot="10800000">
              <a:off x="2638800" y="3119400"/>
              <a:ext cx="204480" cy="1341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97" name="_s41995"/>
            <p:cNvCxnSpPr>
              <a:stCxn id="298" idx="1"/>
              <a:endCxn id="296" idx="2"/>
            </p:cNvCxnSpPr>
            <p:nvPr/>
          </p:nvCxnSpPr>
          <p:spPr>
            <a:xfrm rot="10800000">
              <a:off x="2638800" y="3119400"/>
              <a:ext cx="204480" cy="537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99" name="_s41996"/>
            <p:cNvCxnSpPr>
              <a:stCxn id="300" idx="1"/>
              <a:endCxn id="289" idx="2"/>
            </p:cNvCxnSpPr>
            <p:nvPr/>
          </p:nvCxnSpPr>
          <p:spPr>
            <a:xfrm rot="10800000">
              <a:off x="1006560" y="3119400"/>
              <a:ext cx="204480" cy="537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01" name="_s41997"/>
            <p:cNvCxnSpPr>
              <a:stCxn id="284" idx="0"/>
              <a:endCxn id="278" idx="2"/>
            </p:cNvCxnSpPr>
            <p:nvPr/>
          </p:nvCxnSpPr>
          <p:spPr>
            <a:xfrm flipV="1">
              <a:off x="4271400" y="1508400"/>
              <a:ext cx="1800" cy="1074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02" name="_s41998"/>
            <p:cNvCxnSpPr>
              <a:stCxn id="296" idx="0"/>
              <a:endCxn id="278" idx="2"/>
            </p:cNvCxnSpPr>
            <p:nvPr/>
          </p:nvCxnSpPr>
          <p:spPr>
            <a:xfrm flipH="1" flipV="1" rot="5400000">
              <a:off x="2918160" y="1229400"/>
              <a:ext cx="1074960" cy="1632960"/>
            </a:xfrm>
            <a:prstGeom prst="bentConnector3">
              <a:avLst>
                <a:gd name="adj1" fmla="val 1061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03" name="_s41999"/>
            <p:cNvCxnSpPr>
              <a:stCxn id="289" idx="0"/>
              <a:endCxn id="278" idx="2"/>
            </p:cNvCxnSpPr>
            <p:nvPr/>
          </p:nvCxnSpPr>
          <p:spPr>
            <a:xfrm flipH="1" flipV="1" rot="5400000">
              <a:off x="2102040" y="413280"/>
              <a:ext cx="1074960" cy="3265200"/>
            </a:xfrm>
            <a:prstGeom prst="bentConnector3">
              <a:avLst>
                <a:gd name="adj1" fmla="val 1061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78" name="_s42000"/>
            <p:cNvSpPr/>
            <p:nvPr/>
          </p:nvSpPr>
          <p:spPr>
            <a:xfrm>
              <a:off x="3659760" y="971640"/>
              <a:ext cx="1224000" cy="53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Náměstek ministr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42001"/>
            <p:cNvSpPr/>
            <p:nvPr/>
          </p:nvSpPr>
          <p:spPr>
            <a:xfrm>
              <a:off x="395280" y="2583000"/>
              <a:ext cx="1224000" cy="53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20/2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Odbor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zemních komunikací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_s42002"/>
            <p:cNvSpPr/>
            <p:nvPr/>
          </p:nvSpPr>
          <p:spPr>
            <a:xfrm>
              <a:off x="2027520" y="2583000"/>
              <a:ext cx="1224000" cy="53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10/2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Odbor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ilniční doprav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_s42003"/>
            <p:cNvSpPr/>
            <p:nvPr/>
          </p:nvSpPr>
          <p:spPr>
            <a:xfrm>
              <a:off x="3659760" y="2583000"/>
              <a:ext cx="1224000" cy="53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20/2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dbor civilního letectví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_s42004"/>
            <p:cNvSpPr/>
            <p:nvPr/>
          </p:nvSpPr>
          <p:spPr>
            <a:xfrm>
              <a:off x="1211400" y="3388680"/>
              <a:ext cx="1224000" cy="535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22 Oddělení provozu na pozemních komunikacíc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_s42005"/>
            <p:cNvSpPr/>
            <p:nvPr/>
          </p:nvSpPr>
          <p:spPr>
            <a:xfrm>
              <a:off x="2843640" y="3388680"/>
              <a:ext cx="1224000" cy="535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11 Oddělení nákladní doprav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_s42006"/>
            <p:cNvSpPr/>
            <p:nvPr/>
          </p:nvSpPr>
          <p:spPr>
            <a:xfrm>
              <a:off x="2843640" y="4194720"/>
              <a:ext cx="1222560" cy="535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12 Oddělení mezinárodní osobní dopravy a státního odborného dozoru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_s42007"/>
            <p:cNvSpPr/>
            <p:nvPr/>
          </p:nvSpPr>
          <p:spPr>
            <a:xfrm>
              <a:off x="4475880" y="3388680"/>
              <a:ext cx="1222560" cy="535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21 Oddělení letecké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oprav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_s42008"/>
            <p:cNvSpPr/>
            <p:nvPr/>
          </p:nvSpPr>
          <p:spPr>
            <a:xfrm>
              <a:off x="4475880" y="4194720"/>
              <a:ext cx="1222560" cy="535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22 Oddělení letecko-provozní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42009"/>
            <p:cNvSpPr/>
            <p:nvPr/>
          </p:nvSpPr>
          <p:spPr>
            <a:xfrm>
              <a:off x="1211400" y="4194720"/>
              <a:ext cx="1224000" cy="53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23  Oddělení telematiky,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opravních informací a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zpoplatnění silniční sítě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42010"/>
            <p:cNvSpPr/>
            <p:nvPr/>
          </p:nvSpPr>
          <p:spPr>
            <a:xfrm>
              <a:off x="4475880" y="5000400"/>
              <a:ext cx="1224000" cy="53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24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ddělení ochrany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ivilního letectví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_s42011"/>
            <p:cNvSpPr/>
            <p:nvPr/>
          </p:nvSpPr>
          <p:spPr>
            <a:xfrm>
              <a:off x="4475880" y="5806080"/>
              <a:ext cx="1224000" cy="53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25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ddělení koncepce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 rozvoj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_s42013"/>
            <p:cNvSpPr/>
            <p:nvPr/>
          </p:nvSpPr>
          <p:spPr>
            <a:xfrm>
              <a:off x="2843640" y="1777320"/>
              <a:ext cx="1224000" cy="53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ekretariát náměstka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istr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_s42015"/>
            <p:cNvSpPr/>
            <p:nvPr/>
          </p:nvSpPr>
          <p:spPr>
            <a:xfrm>
              <a:off x="5292000" y="2583000"/>
              <a:ext cx="1224000" cy="53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50/2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dbor silničních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ozide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_s42017"/>
            <p:cNvSpPr/>
            <p:nvPr/>
          </p:nvSpPr>
          <p:spPr>
            <a:xfrm>
              <a:off x="6925680" y="2583000"/>
              <a:ext cx="1222920" cy="53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60/3 Odbor dopravně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právní a BESI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_s42022"/>
            <p:cNvSpPr/>
            <p:nvPr/>
          </p:nvSpPr>
          <p:spPr>
            <a:xfrm>
              <a:off x="6108120" y="3388680"/>
              <a:ext cx="1222560" cy="53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51 Oddělení předpisů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 registru vozide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_s42024"/>
            <p:cNvSpPr/>
            <p:nvPr/>
          </p:nvSpPr>
          <p:spPr>
            <a:xfrm>
              <a:off x="6108120" y="4194720"/>
              <a:ext cx="1224000" cy="53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52 Oddělení schvalování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ozide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_s42026"/>
            <p:cNvSpPr/>
            <p:nvPr/>
          </p:nvSpPr>
          <p:spPr>
            <a:xfrm>
              <a:off x="6108120" y="5000400"/>
              <a:ext cx="1222560" cy="53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53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ddělení kontrol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ozidel v provozu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 státního odborného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ozoru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_s42028"/>
            <p:cNvSpPr/>
            <p:nvPr/>
          </p:nvSpPr>
          <p:spPr>
            <a:xfrm>
              <a:off x="7740360" y="3388680"/>
              <a:ext cx="1222560" cy="53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61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Oddělení agend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řidičů,evidencí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 statistik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_s42030"/>
            <p:cNvSpPr/>
            <p:nvPr/>
          </p:nvSpPr>
          <p:spPr>
            <a:xfrm>
              <a:off x="7740360" y="4194720"/>
              <a:ext cx="1224000" cy="53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63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ddělení právních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ředpisů,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právního řízení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 právního zastupování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dboru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_s42032"/>
            <p:cNvSpPr/>
            <p:nvPr/>
          </p:nvSpPr>
          <p:spPr>
            <a:xfrm>
              <a:off x="7740360" y="5000400"/>
              <a:ext cx="1222560" cy="53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64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ddělení BESI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kce 200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kce silniční a letecké dopravy, řidičů a vozi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4788000" y="2204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427640" y="1557360"/>
            <a:ext cx="1439640" cy="7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1 orgán státní správ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Úřad pro civilní letectví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1 organizační složka stát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Ústav pro odborné zjišťování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příčin leteckých neho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6372360" y="2349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084720" y="1773360"/>
            <a:ext cx="129564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1 příspěvková organiza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Centrum služeb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pro silniční doprav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11280" y="3141720"/>
            <a:ext cx="0" cy="21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39640" y="5300640"/>
            <a:ext cx="144000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1 příspěvková organiza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Ředitelství silnic a dálnic Č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324000" y="907920"/>
            <a:ext cx="8568360" cy="5257440"/>
            <a:chOff x="324000" y="907920"/>
            <a:chExt cx="8568360" cy="5257440"/>
          </a:xfrm>
        </p:grpSpPr>
        <p:cxnSp>
          <p:nvCxnSpPr>
            <p:cNvPr id="90" name="_s5160"/>
            <p:cNvCxnSpPr>
              <a:stCxn id="91" idx="1"/>
              <a:endCxn id="92" idx="2"/>
            </p:cNvCxnSpPr>
            <p:nvPr/>
          </p:nvCxnSpPr>
          <p:spPr>
            <a:xfrm rot="10800000">
              <a:off x="6583680" y="2784600"/>
              <a:ext cx="330120" cy="3004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3" name="_s5158"/>
            <p:cNvCxnSpPr>
              <a:stCxn id="94" idx="1"/>
              <a:endCxn id="92" idx="2"/>
            </p:cNvCxnSpPr>
            <p:nvPr/>
          </p:nvCxnSpPr>
          <p:spPr>
            <a:xfrm rot="10800000">
              <a:off x="6583680" y="2784600"/>
              <a:ext cx="330120" cy="1878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5" name="_s5156"/>
            <p:cNvCxnSpPr>
              <a:stCxn id="96" idx="1"/>
              <a:endCxn id="92" idx="2"/>
            </p:cNvCxnSpPr>
            <p:nvPr/>
          </p:nvCxnSpPr>
          <p:spPr>
            <a:xfrm rot="10800000">
              <a:off x="6583680" y="2784600"/>
              <a:ext cx="330120" cy="751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7" name="_s5154"/>
            <p:cNvCxnSpPr>
              <a:stCxn id="92" idx="0"/>
              <a:endCxn id="98" idx="2"/>
            </p:cNvCxnSpPr>
            <p:nvPr/>
          </p:nvCxnSpPr>
          <p:spPr>
            <a:xfrm flipV="1" rot="16200000">
              <a:off x="5078520" y="528120"/>
              <a:ext cx="376200" cy="2635920"/>
            </a:xfrm>
            <a:prstGeom prst="bentConnector3">
              <a:avLst>
                <a:gd name="adj1" fmla="val 3036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9" name="_s5144"/>
            <p:cNvCxnSpPr>
              <a:stCxn id="100" idx="1"/>
              <a:endCxn id="101" idx="2"/>
            </p:cNvCxnSpPr>
            <p:nvPr/>
          </p:nvCxnSpPr>
          <p:spPr>
            <a:xfrm rot="10800000">
              <a:off x="3948480" y="2784600"/>
              <a:ext cx="330120" cy="3004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2" name="_s5142"/>
            <p:cNvCxnSpPr>
              <a:stCxn id="103" idx="1"/>
              <a:endCxn id="101" idx="2"/>
            </p:cNvCxnSpPr>
            <p:nvPr/>
          </p:nvCxnSpPr>
          <p:spPr>
            <a:xfrm rot="10800000">
              <a:off x="3948480" y="2784600"/>
              <a:ext cx="330120" cy="1878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4" name="_s5140"/>
            <p:cNvCxnSpPr>
              <a:stCxn id="105" idx="1"/>
              <a:endCxn id="101" idx="2"/>
            </p:cNvCxnSpPr>
            <p:nvPr/>
          </p:nvCxnSpPr>
          <p:spPr>
            <a:xfrm rot="10800000">
              <a:off x="3948480" y="2784600"/>
              <a:ext cx="330120" cy="7488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6" name="_s5138"/>
            <p:cNvCxnSpPr>
              <a:stCxn id="107" idx="1"/>
              <a:endCxn id="108" idx="2"/>
            </p:cNvCxnSpPr>
            <p:nvPr/>
          </p:nvCxnSpPr>
          <p:spPr>
            <a:xfrm rot="10800000">
              <a:off x="1312200" y="2784600"/>
              <a:ext cx="330120" cy="1878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9" name="_s5134"/>
            <p:cNvCxnSpPr>
              <a:stCxn id="110" idx="1"/>
              <a:endCxn id="108" idx="2"/>
            </p:cNvCxnSpPr>
            <p:nvPr/>
          </p:nvCxnSpPr>
          <p:spPr>
            <a:xfrm rot="10800000">
              <a:off x="1312200" y="2784600"/>
              <a:ext cx="330120" cy="751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1" name="_s5132"/>
            <p:cNvCxnSpPr>
              <a:stCxn id="101" idx="0"/>
              <a:endCxn id="98" idx="2"/>
            </p:cNvCxnSpPr>
            <p:nvPr/>
          </p:nvCxnSpPr>
          <p:spPr>
            <a:xfrm flipV="1">
              <a:off x="3948840" y="1658160"/>
              <a:ext cx="2520" cy="376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2" name="_s5130"/>
            <p:cNvCxnSpPr>
              <a:stCxn id="108" idx="0"/>
              <a:endCxn id="98" idx="2"/>
            </p:cNvCxnSpPr>
            <p:nvPr/>
          </p:nvCxnSpPr>
          <p:spPr>
            <a:xfrm flipH="1" flipV="1" rot="5400000">
              <a:off x="2442960" y="528120"/>
              <a:ext cx="376200" cy="2636640"/>
            </a:xfrm>
            <a:prstGeom prst="bentConnector3">
              <a:avLst>
                <a:gd name="adj1" fmla="val 3036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98" name="_s5126"/>
            <p:cNvSpPr/>
            <p:nvPr/>
          </p:nvSpPr>
          <p:spPr>
            <a:xfrm>
              <a:off x="2959920" y="907920"/>
              <a:ext cx="1978200" cy="750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inistr doprav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_s5127"/>
            <p:cNvSpPr/>
            <p:nvPr/>
          </p:nvSpPr>
          <p:spPr>
            <a:xfrm>
              <a:off x="324000" y="2034360"/>
              <a:ext cx="1978200" cy="750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02/0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Kabinet ministr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_s5129"/>
            <p:cNvSpPr/>
            <p:nvPr/>
          </p:nvSpPr>
          <p:spPr>
            <a:xfrm>
              <a:off x="2959920" y="2034360"/>
              <a:ext cx="1978200" cy="750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40/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dbor auditu, kontrol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 dozor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_s5133"/>
            <p:cNvSpPr/>
            <p:nvPr/>
          </p:nvSpPr>
          <p:spPr>
            <a:xfrm>
              <a:off x="1642680" y="3161160"/>
              <a:ext cx="1976400" cy="750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03 Oddělení tiskové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_s5137"/>
            <p:cNvSpPr/>
            <p:nvPr/>
          </p:nvSpPr>
          <p:spPr>
            <a:xfrm>
              <a:off x="1642680" y="4287600"/>
              <a:ext cx="1976400" cy="748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05 Oddělení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zinárodních vztahů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 protokol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_s5139"/>
            <p:cNvSpPr/>
            <p:nvPr/>
          </p:nvSpPr>
          <p:spPr>
            <a:xfrm>
              <a:off x="4278960" y="3161160"/>
              <a:ext cx="1975680" cy="748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41 Oddělení kontroly,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ížností a dozor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_s5141"/>
            <p:cNvSpPr/>
            <p:nvPr/>
          </p:nvSpPr>
          <p:spPr>
            <a:xfrm>
              <a:off x="4278960" y="4287600"/>
              <a:ext cx="1975680" cy="748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42 Oddělení finanční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kontroly a interníh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udit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5143"/>
            <p:cNvSpPr/>
            <p:nvPr/>
          </p:nvSpPr>
          <p:spPr>
            <a:xfrm>
              <a:off x="4278960" y="5414400"/>
              <a:ext cx="1975680" cy="748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43 Oddělení kontrol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čerpání fondů EU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5153"/>
            <p:cNvSpPr/>
            <p:nvPr/>
          </p:nvSpPr>
          <p:spPr>
            <a:xfrm>
              <a:off x="5595120" y="2034360"/>
              <a:ext cx="1978200" cy="750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30/0 Odbor krizovéh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řízení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5155"/>
            <p:cNvSpPr/>
            <p:nvPr/>
          </p:nvSpPr>
          <p:spPr>
            <a:xfrm>
              <a:off x="6914160" y="3161160"/>
              <a:ext cx="1978200" cy="750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31 Oddělení koncepcí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 mezinárodní spoluprá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5157"/>
            <p:cNvSpPr/>
            <p:nvPr/>
          </p:nvSpPr>
          <p:spPr>
            <a:xfrm>
              <a:off x="6914160" y="4287600"/>
              <a:ext cx="1978200" cy="750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32 Oddělení plánování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 řízení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_s5159"/>
            <p:cNvSpPr/>
            <p:nvPr/>
          </p:nvSpPr>
          <p:spPr>
            <a:xfrm>
              <a:off x="6914160" y="5414400"/>
              <a:ext cx="1978200" cy="750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33 Bezpečnostní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ddělení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dbory přímo podřízené ministrov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14480" y="5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250920" y="743040"/>
            <a:ext cx="8496720" cy="5599800"/>
            <a:chOff x="250920" y="743040"/>
            <a:chExt cx="8496720" cy="5599800"/>
          </a:xfrm>
        </p:grpSpPr>
        <p:cxnSp>
          <p:nvCxnSpPr>
            <p:cNvPr id="116" name="_s10294"/>
            <p:cNvCxnSpPr>
              <a:stCxn id="117" idx="3"/>
              <a:endCxn id="118" idx="2"/>
            </p:cNvCxnSpPr>
            <p:nvPr/>
          </p:nvCxnSpPr>
          <p:spPr>
            <a:xfrm flipV="1">
              <a:off x="3889800" y="1543320"/>
              <a:ext cx="607680" cy="801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9" name="_s10271"/>
            <p:cNvCxnSpPr>
              <a:stCxn id="120" idx="1"/>
              <a:endCxn id="121" idx="2"/>
            </p:cNvCxnSpPr>
            <p:nvPr/>
          </p:nvCxnSpPr>
          <p:spPr>
            <a:xfrm rot="10800000">
              <a:off x="4496400" y="3945600"/>
              <a:ext cx="607680" cy="2000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2" name="_s10269"/>
            <p:cNvCxnSpPr>
              <a:stCxn id="123" idx="1"/>
              <a:endCxn id="121" idx="2"/>
            </p:cNvCxnSpPr>
            <p:nvPr/>
          </p:nvCxnSpPr>
          <p:spPr>
            <a:xfrm rot="10800000">
              <a:off x="4496400" y="3945600"/>
              <a:ext cx="607680" cy="801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4" name="_s10260"/>
            <p:cNvCxnSpPr>
              <a:stCxn id="121" idx="0"/>
              <a:endCxn id="118" idx="2"/>
            </p:cNvCxnSpPr>
            <p:nvPr/>
          </p:nvCxnSpPr>
          <p:spPr>
            <a:xfrm flipV="1">
              <a:off x="4496760" y="1542960"/>
              <a:ext cx="5400" cy="1602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18" name="_s10258"/>
            <p:cNvSpPr/>
            <p:nvPr/>
          </p:nvSpPr>
          <p:spPr>
            <a:xfrm>
              <a:off x="2675160" y="743040"/>
              <a:ext cx="3643560" cy="800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. náměstek ministr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_s10256"/>
            <p:cNvSpPr/>
            <p:nvPr/>
          </p:nvSpPr>
          <p:spPr>
            <a:xfrm>
              <a:off x="2675160" y="3145320"/>
              <a:ext cx="3643560" cy="800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3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0/1 Odbor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fondů E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_s10247"/>
            <p:cNvSpPr/>
            <p:nvPr/>
          </p:nvSpPr>
          <p:spPr>
            <a:xfrm>
              <a:off x="5104080" y="4346640"/>
              <a:ext cx="3643560" cy="798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31 Oddělení fondu soudržnost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_s10245"/>
            <p:cNvSpPr/>
            <p:nvPr/>
          </p:nvSpPr>
          <p:spPr>
            <a:xfrm>
              <a:off x="5104080" y="5545440"/>
              <a:ext cx="3643560" cy="797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32 Oddělení strukturálních fondů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 programů E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_s10293"/>
            <p:cNvSpPr/>
            <p:nvPr/>
          </p:nvSpPr>
          <p:spPr>
            <a:xfrm>
              <a:off x="250920" y="1944000"/>
              <a:ext cx="3638880" cy="800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kretariát 1. náměstka ministr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kce 100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kce fondů E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44360" y="5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179280" y="981000"/>
            <a:ext cx="8704800" cy="5371920"/>
            <a:chOff x="179280" y="981000"/>
            <a:chExt cx="8704800" cy="5371920"/>
          </a:xfrm>
        </p:grpSpPr>
        <p:cxnSp>
          <p:nvCxnSpPr>
            <p:cNvPr id="128" name="_s8240"/>
            <p:cNvCxnSpPr>
              <a:stCxn id="129" idx="1"/>
              <a:endCxn id="130" idx="2"/>
            </p:cNvCxnSpPr>
            <p:nvPr/>
          </p:nvCxnSpPr>
          <p:spPr>
            <a:xfrm rot="10800000">
              <a:off x="2435040" y="3511080"/>
              <a:ext cx="645480" cy="2527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1" name="_s8238"/>
            <p:cNvCxnSpPr>
              <a:stCxn id="132" idx="3"/>
              <a:endCxn id="133" idx="2"/>
            </p:cNvCxnSpPr>
            <p:nvPr/>
          </p:nvCxnSpPr>
          <p:spPr>
            <a:xfrm flipV="1">
              <a:off x="4047840" y="1613160"/>
              <a:ext cx="645480" cy="635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4" name="_s8236"/>
            <p:cNvCxnSpPr>
              <a:stCxn id="135" idx="0"/>
              <a:endCxn id="133" idx="2"/>
            </p:cNvCxnSpPr>
            <p:nvPr/>
          </p:nvCxnSpPr>
          <p:spPr>
            <a:xfrm flipV="1" rot="16200000">
              <a:off x="5188320" y="1117080"/>
              <a:ext cx="1266120" cy="2257200"/>
            </a:xfrm>
            <a:prstGeom prst="bentConnector3">
              <a:avLst>
                <a:gd name="adj1" fmla="val 901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6" name="_s8215"/>
            <p:cNvCxnSpPr>
              <a:stCxn id="137" idx="1"/>
              <a:endCxn id="130" idx="2"/>
            </p:cNvCxnSpPr>
            <p:nvPr/>
          </p:nvCxnSpPr>
          <p:spPr>
            <a:xfrm rot="10800000">
              <a:off x="2435040" y="3511080"/>
              <a:ext cx="645480" cy="15804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8" name="_s8213"/>
            <p:cNvCxnSpPr>
              <a:stCxn id="139" idx="1"/>
              <a:endCxn id="130" idx="2"/>
            </p:cNvCxnSpPr>
            <p:nvPr/>
          </p:nvCxnSpPr>
          <p:spPr>
            <a:xfrm rot="10800000">
              <a:off x="2435040" y="3511080"/>
              <a:ext cx="645480" cy="6332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0" name="_s8209"/>
            <p:cNvCxnSpPr>
              <a:stCxn id="130" idx="0"/>
              <a:endCxn id="133" idx="2"/>
            </p:cNvCxnSpPr>
            <p:nvPr/>
          </p:nvCxnSpPr>
          <p:spPr>
            <a:xfrm flipH="1" flipV="1" rot="5400000">
              <a:off x="2931480" y="1117080"/>
              <a:ext cx="1266120" cy="2257920"/>
            </a:xfrm>
            <a:prstGeom prst="bentConnector3">
              <a:avLst>
                <a:gd name="adj1" fmla="val 9015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33" name="_s8207"/>
            <p:cNvSpPr/>
            <p:nvPr/>
          </p:nvSpPr>
          <p:spPr>
            <a:xfrm>
              <a:off x="2758680" y="981000"/>
              <a:ext cx="3868920" cy="632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áměstek ministr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_s8205"/>
            <p:cNvSpPr/>
            <p:nvPr/>
          </p:nvSpPr>
          <p:spPr>
            <a:xfrm>
              <a:off x="501120" y="2879280"/>
              <a:ext cx="3868920" cy="632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810/8 Odbor právní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_s8201"/>
            <p:cNvSpPr/>
            <p:nvPr/>
          </p:nvSpPr>
          <p:spPr>
            <a:xfrm>
              <a:off x="3080520" y="3828240"/>
              <a:ext cx="3864960" cy="63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811 Oddělení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rozkladové komis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_s8199"/>
            <p:cNvSpPr/>
            <p:nvPr/>
          </p:nvSpPr>
          <p:spPr>
            <a:xfrm>
              <a:off x="3080520" y="4775400"/>
              <a:ext cx="3864960" cy="630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812 Oddělení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ávních analý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_s8235"/>
            <p:cNvSpPr/>
            <p:nvPr/>
          </p:nvSpPr>
          <p:spPr>
            <a:xfrm>
              <a:off x="5015160" y="2879280"/>
              <a:ext cx="3868920" cy="632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820/8 Odbor veřejných zakáze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_s8237"/>
            <p:cNvSpPr/>
            <p:nvPr/>
          </p:nvSpPr>
          <p:spPr>
            <a:xfrm>
              <a:off x="179280" y="1929960"/>
              <a:ext cx="3868920" cy="632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kretariát náměstka ministr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_s8239"/>
            <p:cNvSpPr/>
            <p:nvPr/>
          </p:nvSpPr>
          <p:spPr>
            <a:xfrm>
              <a:off x="3080520" y="5722200"/>
              <a:ext cx="3868920" cy="63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813 Oddělení právní pomoc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kce 800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kce práv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38240" y="5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395280" y="971640"/>
            <a:ext cx="8568720" cy="5371200"/>
            <a:chOff x="395280" y="971640"/>
            <a:chExt cx="8568720" cy="5371200"/>
          </a:xfrm>
        </p:grpSpPr>
        <p:cxnSp>
          <p:nvCxnSpPr>
            <p:cNvPr id="144" name="_s7219"/>
            <p:cNvCxnSpPr>
              <a:stCxn id="145" idx="3"/>
              <a:endCxn id="146" idx="2"/>
            </p:cNvCxnSpPr>
            <p:nvPr/>
          </p:nvCxnSpPr>
          <p:spPr>
            <a:xfrm flipV="1">
              <a:off x="3252600" y="1738800"/>
              <a:ext cx="476640" cy="768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7" name="_s7195"/>
            <p:cNvCxnSpPr>
              <a:stCxn id="148" idx="1"/>
              <a:endCxn id="149" idx="2"/>
            </p:cNvCxnSpPr>
            <p:nvPr/>
          </p:nvCxnSpPr>
          <p:spPr>
            <a:xfrm rot="10800000">
              <a:off x="5633280" y="4043520"/>
              <a:ext cx="476640" cy="1918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0" name="_s7194"/>
            <p:cNvCxnSpPr>
              <a:stCxn id="151" idx="1"/>
              <a:endCxn id="149" idx="2"/>
            </p:cNvCxnSpPr>
            <p:nvPr/>
          </p:nvCxnSpPr>
          <p:spPr>
            <a:xfrm rot="10800000">
              <a:off x="5633280" y="4043520"/>
              <a:ext cx="476640" cy="768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2" name="_s7191"/>
            <p:cNvCxnSpPr>
              <a:stCxn id="153" idx="1"/>
              <a:endCxn id="154" idx="2"/>
            </p:cNvCxnSpPr>
            <p:nvPr/>
          </p:nvCxnSpPr>
          <p:spPr>
            <a:xfrm rot="10800000">
              <a:off x="1823040" y="4043520"/>
              <a:ext cx="476640" cy="1918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5" name="_s7190"/>
            <p:cNvCxnSpPr>
              <a:stCxn id="156" idx="1"/>
              <a:endCxn id="154" idx="2"/>
            </p:cNvCxnSpPr>
            <p:nvPr/>
          </p:nvCxnSpPr>
          <p:spPr>
            <a:xfrm rot="10800000">
              <a:off x="1823040" y="4043520"/>
              <a:ext cx="476640" cy="768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7" name="_s7187"/>
            <p:cNvCxnSpPr>
              <a:stCxn id="149" idx="0"/>
              <a:endCxn id="146" idx="2"/>
            </p:cNvCxnSpPr>
            <p:nvPr/>
          </p:nvCxnSpPr>
          <p:spPr>
            <a:xfrm flipV="1" rot="16200000">
              <a:off x="3912480" y="1554480"/>
              <a:ext cx="1536840" cy="1905480"/>
            </a:xfrm>
            <a:prstGeom prst="bentConnector3">
              <a:avLst>
                <a:gd name="adj1" fmla="val 742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8" name="_s7185"/>
            <p:cNvCxnSpPr>
              <a:stCxn id="154" idx="0"/>
              <a:endCxn id="146" idx="2"/>
            </p:cNvCxnSpPr>
            <p:nvPr/>
          </p:nvCxnSpPr>
          <p:spPr>
            <a:xfrm flipH="1" flipV="1" rot="5400000">
              <a:off x="2007720" y="1554480"/>
              <a:ext cx="1536840" cy="1905480"/>
            </a:xfrm>
            <a:prstGeom prst="bentConnector3">
              <a:avLst>
                <a:gd name="adj1" fmla="val 742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46" name="_s7184"/>
            <p:cNvSpPr/>
            <p:nvPr/>
          </p:nvSpPr>
          <p:spPr>
            <a:xfrm>
              <a:off x="2300040" y="971640"/>
              <a:ext cx="2857320" cy="767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Náměstek ministr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_s7183"/>
            <p:cNvSpPr/>
            <p:nvPr/>
          </p:nvSpPr>
          <p:spPr>
            <a:xfrm>
              <a:off x="395280" y="3276000"/>
              <a:ext cx="2857320" cy="767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510/5 Odbor legislativ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_s7181"/>
            <p:cNvSpPr/>
            <p:nvPr/>
          </p:nvSpPr>
          <p:spPr>
            <a:xfrm>
              <a:off x="4205160" y="3276000"/>
              <a:ext cx="2857320" cy="767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530/5 Odbor pro záležitosti E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_s7178"/>
            <p:cNvSpPr/>
            <p:nvPr/>
          </p:nvSpPr>
          <p:spPr>
            <a:xfrm>
              <a:off x="2300040" y="4428000"/>
              <a:ext cx="2857320" cy="765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511 Oddělení pro dopravu drážní,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vodní a podmínky provozu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na pozemních komunikacíc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_s7177"/>
            <p:cNvSpPr/>
            <p:nvPr/>
          </p:nvSpPr>
          <p:spPr>
            <a:xfrm>
              <a:off x="2300040" y="5577840"/>
              <a:ext cx="2857320" cy="765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512 Oddělení pro dopravu leteckou, silniční a provoz na pozemních komunikacíc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_s7174"/>
            <p:cNvSpPr/>
            <p:nvPr/>
          </p:nvSpPr>
          <p:spPr>
            <a:xfrm>
              <a:off x="6110280" y="4428000"/>
              <a:ext cx="2853720" cy="765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531 Oddělení koordina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záležitostí E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_s7173"/>
            <p:cNvSpPr/>
            <p:nvPr/>
          </p:nvSpPr>
          <p:spPr>
            <a:xfrm>
              <a:off x="6110280" y="5577840"/>
              <a:ext cx="2853720" cy="765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532 Oddělení agend E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_s7218"/>
            <p:cNvSpPr/>
            <p:nvPr/>
          </p:nvSpPr>
          <p:spPr>
            <a:xfrm>
              <a:off x="395280" y="2123640"/>
              <a:ext cx="2857320" cy="767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kretariát náměstka ministr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kce 500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kce legislativ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"/>
          <p:cNvGrpSpPr/>
          <p:nvPr/>
        </p:nvGrpSpPr>
        <p:grpSpPr>
          <a:xfrm>
            <a:off x="468360" y="836640"/>
            <a:ext cx="8281440" cy="5616360"/>
            <a:chOff x="468360" y="836640"/>
            <a:chExt cx="8281440" cy="5616360"/>
          </a:xfrm>
        </p:grpSpPr>
        <p:cxnSp>
          <p:nvCxnSpPr>
            <p:cNvPr id="161" name="_s6196"/>
            <p:cNvCxnSpPr>
              <a:stCxn id="162" idx="1"/>
              <a:endCxn id="163" idx="2"/>
            </p:cNvCxnSpPr>
            <p:nvPr/>
          </p:nvCxnSpPr>
          <p:spPr>
            <a:xfrm rot="10800000">
              <a:off x="7052040" y="2710440"/>
              <a:ext cx="243360" cy="35208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4" name="_s6194"/>
            <p:cNvCxnSpPr>
              <a:stCxn id="165" idx="3"/>
              <a:endCxn id="166" idx="2"/>
            </p:cNvCxnSpPr>
            <p:nvPr/>
          </p:nvCxnSpPr>
          <p:spPr>
            <a:xfrm flipV="1">
              <a:off x="3881880" y="1385280"/>
              <a:ext cx="243360" cy="441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7" name="_s6190"/>
            <p:cNvCxnSpPr>
              <a:stCxn id="168" idx="1"/>
              <a:endCxn id="163" idx="2"/>
            </p:cNvCxnSpPr>
            <p:nvPr/>
          </p:nvCxnSpPr>
          <p:spPr>
            <a:xfrm rot="10800000">
              <a:off x="7052040" y="2710440"/>
              <a:ext cx="243360" cy="2856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9" name="_s6188"/>
            <p:cNvCxnSpPr>
              <a:stCxn id="170" idx="1"/>
              <a:endCxn id="163" idx="2"/>
            </p:cNvCxnSpPr>
            <p:nvPr/>
          </p:nvCxnSpPr>
          <p:spPr>
            <a:xfrm rot="10800000">
              <a:off x="7052040" y="2710440"/>
              <a:ext cx="243360" cy="20887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1" name="_s6186"/>
            <p:cNvCxnSpPr>
              <a:stCxn id="172" idx="1"/>
              <a:endCxn id="163" idx="2"/>
            </p:cNvCxnSpPr>
            <p:nvPr/>
          </p:nvCxnSpPr>
          <p:spPr>
            <a:xfrm rot="10800000">
              <a:off x="7052040" y="2710440"/>
              <a:ext cx="243360" cy="1322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3" name="_s6184"/>
            <p:cNvCxnSpPr>
              <a:stCxn id="174" idx="1"/>
              <a:endCxn id="163" idx="2"/>
            </p:cNvCxnSpPr>
            <p:nvPr/>
          </p:nvCxnSpPr>
          <p:spPr>
            <a:xfrm rot="10800000">
              <a:off x="7052040" y="2710440"/>
              <a:ext cx="243360" cy="5497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5" name="_s6182"/>
            <p:cNvCxnSpPr>
              <a:stCxn id="163" idx="0"/>
              <a:endCxn id="166" idx="2"/>
            </p:cNvCxnSpPr>
            <p:nvPr/>
          </p:nvCxnSpPr>
          <p:spPr>
            <a:xfrm flipV="1" rot="16200000">
              <a:off x="5146560" y="362160"/>
              <a:ext cx="883800" cy="2928960"/>
            </a:xfrm>
            <a:prstGeom prst="bentConnector3">
              <a:avLst>
                <a:gd name="adj1" fmla="val 1246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6" name="_s6179"/>
            <p:cNvCxnSpPr>
              <a:stCxn id="177" idx="1"/>
              <a:endCxn id="178" idx="2"/>
            </p:cNvCxnSpPr>
            <p:nvPr/>
          </p:nvCxnSpPr>
          <p:spPr>
            <a:xfrm rot="10800000">
              <a:off x="3150000" y="2817360"/>
              <a:ext cx="243360" cy="2035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9" name="_s6172"/>
            <p:cNvCxnSpPr>
              <a:stCxn id="180" idx="1"/>
              <a:endCxn id="181" idx="2"/>
            </p:cNvCxnSpPr>
            <p:nvPr/>
          </p:nvCxnSpPr>
          <p:spPr>
            <a:xfrm rot="10800000">
              <a:off x="5105520" y="2817360"/>
              <a:ext cx="241200" cy="1266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2" name="_s6170"/>
            <p:cNvCxnSpPr>
              <a:stCxn id="183" idx="1"/>
              <a:endCxn id="181" idx="2"/>
            </p:cNvCxnSpPr>
            <p:nvPr/>
          </p:nvCxnSpPr>
          <p:spPr>
            <a:xfrm rot="10800000">
              <a:off x="5105520" y="2817360"/>
              <a:ext cx="241200" cy="4960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4" name="_s6168"/>
            <p:cNvCxnSpPr>
              <a:stCxn id="185" idx="1"/>
              <a:endCxn id="178" idx="2"/>
            </p:cNvCxnSpPr>
            <p:nvPr/>
          </p:nvCxnSpPr>
          <p:spPr>
            <a:xfrm rot="10800000">
              <a:off x="3150000" y="2817360"/>
              <a:ext cx="243360" cy="1266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6" name="_s6166"/>
            <p:cNvCxnSpPr>
              <a:stCxn id="187" idx="1"/>
              <a:endCxn id="178" idx="2"/>
            </p:cNvCxnSpPr>
            <p:nvPr/>
          </p:nvCxnSpPr>
          <p:spPr>
            <a:xfrm rot="10800000">
              <a:off x="3150000" y="2817360"/>
              <a:ext cx="243360" cy="4960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8" name="_s6160"/>
            <p:cNvCxnSpPr>
              <a:stCxn id="189" idx="1"/>
              <a:endCxn id="190" idx="2"/>
            </p:cNvCxnSpPr>
            <p:nvPr/>
          </p:nvCxnSpPr>
          <p:spPr>
            <a:xfrm rot="10800000">
              <a:off x="1202040" y="2817360"/>
              <a:ext cx="241200" cy="1266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1" name="_s6158"/>
            <p:cNvCxnSpPr>
              <a:stCxn id="192" idx="1"/>
              <a:endCxn id="190" idx="2"/>
            </p:cNvCxnSpPr>
            <p:nvPr/>
          </p:nvCxnSpPr>
          <p:spPr>
            <a:xfrm rot="10800000">
              <a:off x="1202040" y="2817360"/>
              <a:ext cx="241200" cy="4960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3" name="_s6156"/>
            <p:cNvCxnSpPr>
              <a:stCxn id="181" idx="0"/>
              <a:endCxn id="166" idx="2"/>
            </p:cNvCxnSpPr>
            <p:nvPr/>
          </p:nvCxnSpPr>
          <p:spPr>
            <a:xfrm flipV="1" rot="16200000">
              <a:off x="4173120" y="1335600"/>
              <a:ext cx="883800" cy="982440"/>
            </a:xfrm>
            <a:prstGeom prst="bentConnector3">
              <a:avLst>
                <a:gd name="adj1" fmla="val 1246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4" name="_s6155"/>
            <p:cNvCxnSpPr>
              <a:stCxn id="178" idx="0"/>
              <a:endCxn id="166" idx="2"/>
            </p:cNvCxnSpPr>
            <p:nvPr/>
          </p:nvCxnSpPr>
          <p:spPr>
            <a:xfrm flipH="1" flipV="1" rot="5400000">
              <a:off x="3195720" y="1339920"/>
              <a:ext cx="883800" cy="974160"/>
            </a:xfrm>
            <a:prstGeom prst="bentConnector3">
              <a:avLst>
                <a:gd name="adj1" fmla="val 1246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5" name="_s6154"/>
            <p:cNvCxnSpPr>
              <a:stCxn id="190" idx="0"/>
              <a:endCxn id="166" idx="2"/>
            </p:cNvCxnSpPr>
            <p:nvPr/>
          </p:nvCxnSpPr>
          <p:spPr>
            <a:xfrm flipH="1" flipV="1" rot="5400000">
              <a:off x="2221560" y="365760"/>
              <a:ext cx="883800" cy="2922120"/>
            </a:xfrm>
            <a:prstGeom prst="bentConnector3">
              <a:avLst>
                <a:gd name="adj1" fmla="val 1246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66" name="_s6150"/>
            <p:cNvSpPr/>
            <p:nvPr/>
          </p:nvSpPr>
          <p:spPr>
            <a:xfrm>
              <a:off x="3391920" y="836640"/>
              <a:ext cx="1464840" cy="549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Vrchní  ředite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_s6151"/>
            <p:cNvSpPr/>
            <p:nvPr/>
          </p:nvSpPr>
          <p:spPr>
            <a:xfrm>
              <a:off x="468360" y="2268720"/>
              <a:ext cx="1464840" cy="549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10/6 Odbor personální 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 organizační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_s6152"/>
            <p:cNvSpPr/>
            <p:nvPr/>
          </p:nvSpPr>
          <p:spPr>
            <a:xfrm>
              <a:off x="2418120" y="2268720"/>
              <a:ext cx="1464840" cy="549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20/6 Odbor vnitřní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práv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_s6153"/>
            <p:cNvSpPr/>
            <p:nvPr/>
          </p:nvSpPr>
          <p:spPr>
            <a:xfrm>
              <a:off x="4371480" y="2268720"/>
              <a:ext cx="1464840" cy="549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30/6 Odbor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formačních systémů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 komunikací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_s6157"/>
            <p:cNvSpPr/>
            <p:nvPr/>
          </p:nvSpPr>
          <p:spPr>
            <a:xfrm>
              <a:off x="1443240" y="3039120"/>
              <a:ext cx="1464840" cy="549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12 Oddělení personální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 mzdové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_s6159"/>
            <p:cNvSpPr/>
            <p:nvPr/>
          </p:nvSpPr>
          <p:spPr>
            <a:xfrm>
              <a:off x="1443240" y="3809880"/>
              <a:ext cx="1464840" cy="546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14 Oddělení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rganizační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_s6165"/>
            <p:cNvSpPr/>
            <p:nvPr/>
          </p:nvSpPr>
          <p:spPr>
            <a:xfrm>
              <a:off x="3393360" y="3039120"/>
              <a:ext cx="1468440" cy="54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22 Oddělení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ospodářské správ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 autoprovozu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_s6167"/>
            <p:cNvSpPr/>
            <p:nvPr/>
          </p:nvSpPr>
          <p:spPr>
            <a:xfrm>
              <a:off x="3393360" y="3809880"/>
              <a:ext cx="1463400" cy="546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23 Oddělení spisové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 archivní služb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_s6169"/>
            <p:cNvSpPr/>
            <p:nvPr/>
          </p:nvSpPr>
          <p:spPr>
            <a:xfrm>
              <a:off x="5346720" y="3039120"/>
              <a:ext cx="1463400" cy="54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31 Oddělení správy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echnických 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komunikačních prostředků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_s6171"/>
            <p:cNvSpPr/>
            <p:nvPr/>
          </p:nvSpPr>
          <p:spPr>
            <a:xfrm>
              <a:off x="5346720" y="3809880"/>
              <a:ext cx="1463400" cy="546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32 Oddělení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formačních systémů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_s6178"/>
            <p:cNvSpPr/>
            <p:nvPr/>
          </p:nvSpPr>
          <p:spPr>
            <a:xfrm>
              <a:off x="3393360" y="4578120"/>
              <a:ext cx="1464840" cy="546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24 Oddělení správy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udov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_s6181"/>
            <p:cNvSpPr/>
            <p:nvPr/>
          </p:nvSpPr>
          <p:spPr>
            <a:xfrm>
              <a:off x="6325200" y="2268720"/>
              <a:ext cx="1454760" cy="442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10/6 Odbor financí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 ekonomik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_s6183"/>
            <p:cNvSpPr/>
            <p:nvPr/>
          </p:nvSpPr>
          <p:spPr>
            <a:xfrm>
              <a:off x="7295400" y="3039120"/>
              <a:ext cx="1454400" cy="442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11 Oddělení tarifů 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latební jednotk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_s6185"/>
            <p:cNvSpPr/>
            <p:nvPr/>
          </p:nvSpPr>
          <p:spPr>
            <a:xfrm>
              <a:off x="7295400" y="3809880"/>
              <a:ext cx="1454400" cy="442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12 Oddělení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ospodářské sfér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_s6187"/>
            <p:cNvSpPr/>
            <p:nvPr/>
          </p:nvSpPr>
          <p:spPr>
            <a:xfrm>
              <a:off x="7295400" y="4578120"/>
              <a:ext cx="1454400" cy="442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13 Oddělení rozpočtové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 příspěvkové sfér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_s6189"/>
            <p:cNvSpPr/>
            <p:nvPr/>
          </p:nvSpPr>
          <p:spPr>
            <a:xfrm>
              <a:off x="7295400" y="5346720"/>
              <a:ext cx="1454400" cy="442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14 Oddělení účetnictví 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 ekonomik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_s6193"/>
            <p:cNvSpPr/>
            <p:nvPr/>
          </p:nvSpPr>
          <p:spPr>
            <a:xfrm>
              <a:off x="2426760" y="1606680"/>
              <a:ext cx="1454760" cy="440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ekretariát vrchního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ředitel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_s6195"/>
            <p:cNvSpPr/>
            <p:nvPr/>
          </p:nvSpPr>
          <p:spPr>
            <a:xfrm>
              <a:off x="7295400" y="6010200"/>
              <a:ext cx="1454400" cy="442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15 Oddělení privatiza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kce 600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kce personální, správní, financí a ekonomi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14480" y="5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250920" y="743040"/>
            <a:ext cx="8496720" cy="5599800"/>
            <a:chOff x="250920" y="743040"/>
            <a:chExt cx="8496720" cy="5599800"/>
          </a:xfrm>
        </p:grpSpPr>
        <p:cxnSp>
          <p:nvCxnSpPr>
            <p:cNvPr id="199" name="_s38938"/>
            <p:cNvCxnSpPr>
              <a:stCxn id="200" idx="1"/>
              <a:endCxn id="201" idx="2"/>
            </p:cNvCxnSpPr>
            <p:nvPr/>
          </p:nvCxnSpPr>
          <p:spPr>
            <a:xfrm rot="10800000">
              <a:off x="5442840" y="2983680"/>
              <a:ext cx="472680" cy="2239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02" name="_s38936"/>
            <p:cNvCxnSpPr>
              <a:stCxn id="203" idx="3"/>
              <a:endCxn id="204" idx="2"/>
            </p:cNvCxnSpPr>
            <p:nvPr/>
          </p:nvCxnSpPr>
          <p:spPr>
            <a:xfrm flipV="1">
              <a:off x="3082680" y="1302840"/>
              <a:ext cx="472680" cy="5612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05" name="_s38917"/>
            <p:cNvCxnSpPr>
              <a:stCxn id="206" idx="1"/>
              <a:endCxn id="201" idx="2"/>
            </p:cNvCxnSpPr>
            <p:nvPr/>
          </p:nvCxnSpPr>
          <p:spPr>
            <a:xfrm rot="10800000">
              <a:off x="5442840" y="2983680"/>
              <a:ext cx="472680" cy="1398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07" name="_s38918"/>
            <p:cNvCxnSpPr>
              <a:stCxn id="208" idx="1"/>
              <a:endCxn id="201" idx="2"/>
            </p:cNvCxnSpPr>
            <p:nvPr/>
          </p:nvCxnSpPr>
          <p:spPr>
            <a:xfrm rot="10800000">
              <a:off x="5442840" y="2983680"/>
              <a:ext cx="472680" cy="5612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09" name="_s38919"/>
            <p:cNvCxnSpPr>
              <a:stCxn id="210" idx="1"/>
              <a:endCxn id="211" idx="2"/>
            </p:cNvCxnSpPr>
            <p:nvPr/>
          </p:nvCxnSpPr>
          <p:spPr>
            <a:xfrm rot="10800000">
              <a:off x="1669320" y="2983680"/>
              <a:ext cx="472680" cy="3080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2" name="_s38920"/>
            <p:cNvCxnSpPr>
              <a:stCxn id="213" idx="1"/>
              <a:endCxn id="211" idx="2"/>
            </p:cNvCxnSpPr>
            <p:nvPr/>
          </p:nvCxnSpPr>
          <p:spPr>
            <a:xfrm rot="10800000">
              <a:off x="1669320" y="2983680"/>
              <a:ext cx="472680" cy="2238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4" name="_s38921"/>
            <p:cNvCxnSpPr>
              <a:stCxn id="215" idx="1"/>
              <a:endCxn id="211" idx="2"/>
            </p:cNvCxnSpPr>
            <p:nvPr/>
          </p:nvCxnSpPr>
          <p:spPr>
            <a:xfrm rot="10800000">
              <a:off x="1669320" y="2983680"/>
              <a:ext cx="472680" cy="1398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6" name="_s38922"/>
            <p:cNvCxnSpPr>
              <a:stCxn id="217" idx="1"/>
              <a:endCxn id="211" idx="2"/>
            </p:cNvCxnSpPr>
            <p:nvPr/>
          </p:nvCxnSpPr>
          <p:spPr>
            <a:xfrm rot="10800000">
              <a:off x="1669320" y="2983680"/>
              <a:ext cx="472680" cy="5612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8" name="_s38923"/>
            <p:cNvCxnSpPr>
              <a:stCxn id="201" idx="0"/>
              <a:endCxn id="204" idx="2"/>
            </p:cNvCxnSpPr>
            <p:nvPr/>
          </p:nvCxnSpPr>
          <p:spPr>
            <a:xfrm flipV="1" rot="16200000">
              <a:off x="3939120" y="918720"/>
              <a:ext cx="1120320" cy="1888920"/>
            </a:xfrm>
            <a:prstGeom prst="bentConnector3">
              <a:avLst>
                <a:gd name="adj1" fmla="val 1018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9" name="_s38924"/>
            <p:cNvCxnSpPr>
              <a:stCxn id="211" idx="0"/>
              <a:endCxn id="204" idx="2"/>
            </p:cNvCxnSpPr>
            <p:nvPr/>
          </p:nvCxnSpPr>
          <p:spPr>
            <a:xfrm flipH="1" flipV="1" rot="5400000">
              <a:off x="2052360" y="920160"/>
              <a:ext cx="1120320" cy="1886040"/>
            </a:xfrm>
            <a:prstGeom prst="bentConnector3">
              <a:avLst>
                <a:gd name="adj1" fmla="val 1018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04" name="_s38925"/>
            <p:cNvSpPr/>
            <p:nvPr/>
          </p:nvSpPr>
          <p:spPr>
            <a:xfrm>
              <a:off x="2139120" y="743040"/>
              <a:ext cx="2832120" cy="560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Náměstek ministr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_s38926"/>
            <p:cNvSpPr/>
            <p:nvPr/>
          </p:nvSpPr>
          <p:spPr>
            <a:xfrm>
              <a:off x="253800" y="2423520"/>
              <a:ext cx="2832120" cy="560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30/4 Odbor drah, železniční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 kombinované doprav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_s38927"/>
            <p:cNvSpPr/>
            <p:nvPr/>
          </p:nvSpPr>
          <p:spPr>
            <a:xfrm>
              <a:off x="4027320" y="2423520"/>
              <a:ext cx="2832120" cy="560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230/4 Odbor plavby a vodních c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38928"/>
            <p:cNvSpPr/>
            <p:nvPr/>
          </p:nvSpPr>
          <p:spPr>
            <a:xfrm>
              <a:off x="2142000" y="3264840"/>
              <a:ext cx="2829240" cy="558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31 Oddělení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koncepcí a rozvoj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_s38929"/>
            <p:cNvSpPr/>
            <p:nvPr/>
          </p:nvSpPr>
          <p:spPr>
            <a:xfrm>
              <a:off x="2142000" y="4103640"/>
              <a:ext cx="2829240" cy="55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32 Oddělení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tátní správy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_s38930"/>
            <p:cNvSpPr/>
            <p:nvPr/>
          </p:nvSpPr>
          <p:spPr>
            <a:xfrm>
              <a:off x="2142000" y="4943160"/>
              <a:ext cx="2829240" cy="55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33 Oddělení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rovozování dráh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 drážní doprav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_s38931"/>
            <p:cNvSpPr/>
            <p:nvPr/>
          </p:nvSpPr>
          <p:spPr>
            <a:xfrm>
              <a:off x="2142000" y="5784120"/>
              <a:ext cx="2829240" cy="55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35 Oddělení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kombinované doprav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_s38932"/>
            <p:cNvSpPr/>
            <p:nvPr/>
          </p:nvSpPr>
          <p:spPr>
            <a:xfrm>
              <a:off x="5915520" y="3264840"/>
              <a:ext cx="2832120" cy="558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231 Oddělení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vnitrozemské plavb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_s38933"/>
            <p:cNvSpPr/>
            <p:nvPr/>
          </p:nvSpPr>
          <p:spPr>
            <a:xfrm>
              <a:off x="5915520" y="4103640"/>
              <a:ext cx="2832120" cy="55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32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ddělení námořní plavb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_s38935"/>
            <p:cNvSpPr/>
            <p:nvPr/>
          </p:nvSpPr>
          <p:spPr>
            <a:xfrm>
              <a:off x="250920" y="1584000"/>
              <a:ext cx="2832120" cy="55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kretariát náměstka ministr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_s38937"/>
            <p:cNvSpPr/>
            <p:nvPr/>
          </p:nvSpPr>
          <p:spPr>
            <a:xfrm>
              <a:off x="5915520" y="4943160"/>
              <a:ext cx="2832120" cy="560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33 Oddělení koncepcí a invest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kce 400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kce drážní a vodní dopravy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95280" y="2997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08000" y="3357720"/>
            <a:ext cx="143964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2 organizace státní správ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Drážní úřa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Drážní inspek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877080" y="256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093080" y="2205000"/>
            <a:ext cx="1582560" cy="7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1 orgán státní správ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Státní plavební správ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1 organizační složka stát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Ředitelství vodních cest Č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1096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395280" y="692280"/>
            <a:ext cx="8350920" cy="5714280"/>
            <a:chOff x="395280" y="692280"/>
            <a:chExt cx="8350920" cy="5714280"/>
          </a:xfrm>
        </p:grpSpPr>
        <p:cxnSp>
          <p:nvCxnSpPr>
            <p:cNvPr id="227" name="_s39954"/>
            <p:cNvCxnSpPr>
              <a:stCxn id="228" idx="3"/>
              <a:endCxn id="229" idx="2"/>
            </p:cNvCxnSpPr>
            <p:nvPr/>
          </p:nvCxnSpPr>
          <p:spPr>
            <a:xfrm flipV="1">
              <a:off x="3975840" y="1364760"/>
              <a:ext cx="597240" cy="673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30" name="_s39941"/>
            <p:cNvCxnSpPr>
              <a:stCxn id="231" idx="1"/>
              <a:endCxn id="232" idx="2"/>
            </p:cNvCxnSpPr>
            <p:nvPr/>
          </p:nvCxnSpPr>
          <p:spPr>
            <a:xfrm rot="10800000">
              <a:off x="4572360" y="3384000"/>
              <a:ext cx="597240" cy="1678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33" name="_s39942"/>
            <p:cNvCxnSpPr>
              <a:stCxn id="234" idx="1"/>
              <a:endCxn id="232" idx="2"/>
            </p:cNvCxnSpPr>
            <p:nvPr/>
          </p:nvCxnSpPr>
          <p:spPr>
            <a:xfrm rot="10800000">
              <a:off x="4572360" y="3384000"/>
              <a:ext cx="597240" cy="2688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35" name="_s39944"/>
            <p:cNvCxnSpPr>
              <a:stCxn id="236" idx="1"/>
              <a:endCxn id="232" idx="2"/>
            </p:cNvCxnSpPr>
            <p:nvPr/>
          </p:nvCxnSpPr>
          <p:spPr>
            <a:xfrm rot="10800000">
              <a:off x="4572360" y="3384000"/>
              <a:ext cx="597240" cy="673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37" name="_s39945"/>
            <p:cNvCxnSpPr>
              <a:stCxn id="232" idx="0"/>
              <a:endCxn id="229" idx="2"/>
            </p:cNvCxnSpPr>
            <p:nvPr/>
          </p:nvCxnSpPr>
          <p:spPr>
            <a:xfrm flipV="1">
              <a:off x="4573080" y="1364760"/>
              <a:ext cx="3960" cy="13464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29" name="_s39946"/>
            <p:cNvSpPr/>
            <p:nvPr/>
          </p:nvSpPr>
          <p:spPr>
            <a:xfrm>
              <a:off x="2782440" y="692280"/>
              <a:ext cx="3580920" cy="672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Vrchní ředite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_s39947"/>
            <p:cNvSpPr/>
            <p:nvPr/>
          </p:nvSpPr>
          <p:spPr>
            <a:xfrm>
              <a:off x="2782440" y="2711520"/>
              <a:ext cx="3580920" cy="672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910/9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Odbor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nfrastruktu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_s39948"/>
            <p:cNvSpPr/>
            <p:nvPr/>
          </p:nvSpPr>
          <p:spPr>
            <a:xfrm>
              <a:off x="5169960" y="3721320"/>
              <a:ext cx="3576240" cy="670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911 Oddělení infrastruktury pozemních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komunikací a speciálního stavebního úřad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_s39950"/>
            <p:cNvSpPr/>
            <p:nvPr/>
          </p:nvSpPr>
          <p:spPr>
            <a:xfrm>
              <a:off x="5169960" y="5735880"/>
              <a:ext cx="3576240" cy="670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913 Oddělení infrastruktury</a:t>
              </a:r>
              <a:r>
                <a:rPr b="0" lang="en-US" sz="1200" spc="-1" strike="noStrike">
                  <a:solidFill>
                    <a:srgbClr val="99cc00"/>
                  </a:solidFill>
                  <a:latin typeface="Arial"/>
                  <a:ea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etišť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 vodních c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39951"/>
            <p:cNvSpPr/>
            <p:nvPr/>
          </p:nvSpPr>
          <p:spPr>
            <a:xfrm>
              <a:off x="5169960" y="4728960"/>
              <a:ext cx="3576240" cy="670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912 Oddělení infrastruktury železn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39953"/>
            <p:cNvSpPr/>
            <p:nvPr/>
          </p:nvSpPr>
          <p:spPr>
            <a:xfrm>
              <a:off x="395280" y="1701720"/>
              <a:ext cx="3580920" cy="672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kretariát vrchního ředite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kce 900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kce infrastrukt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144360" y="5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179280" y="981000"/>
            <a:ext cx="8705160" cy="5371920"/>
            <a:chOff x="179280" y="981000"/>
            <a:chExt cx="8705160" cy="5371920"/>
          </a:xfrm>
        </p:grpSpPr>
        <p:cxnSp>
          <p:nvCxnSpPr>
            <p:cNvPr id="241" name="_s40982"/>
            <p:cNvCxnSpPr>
              <a:stCxn id="242" idx="1"/>
              <a:endCxn id="243" idx="2"/>
            </p:cNvCxnSpPr>
            <p:nvPr/>
          </p:nvCxnSpPr>
          <p:spPr>
            <a:xfrm rot="10800000">
              <a:off x="5498280" y="3509280"/>
              <a:ext cx="484200" cy="25290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4" name="_s40980"/>
            <p:cNvCxnSpPr>
              <a:stCxn id="245" idx="1"/>
              <a:endCxn id="243" idx="2"/>
            </p:cNvCxnSpPr>
            <p:nvPr/>
          </p:nvCxnSpPr>
          <p:spPr>
            <a:xfrm rot="10800000">
              <a:off x="5498280" y="3509280"/>
              <a:ext cx="484200" cy="1582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6" name="_s40978"/>
            <p:cNvCxnSpPr>
              <a:stCxn id="247" idx="1"/>
              <a:endCxn id="243" idx="2"/>
            </p:cNvCxnSpPr>
            <p:nvPr/>
          </p:nvCxnSpPr>
          <p:spPr>
            <a:xfrm rot="10800000">
              <a:off x="5498280" y="3509280"/>
              <a:ext cx="484200" cy="6354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8" name="_s40976"/>
            <p:cNvCxnSpPr>
              <a:stCxn id="243" idx="0"/>
              <a:endCxn id="249" idx="2"/>
            </p:cNvCxnSpPr>
            <p:nvPr/>
          </p:nvCxnSpPr>
          <p:spPr>
            <a:xfrm flipV="1" rot="16200000">
              <a:off x="3898440" y="1278360"/>
              <a:ext cx="1266120" cy="1935000"/>
            </a:xfrm>
            <a:prstGeom prst="bentConnector3">
              <a:avLst>
                <a:gd name="adj1" fmla="val 901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50" name="_s40974"/>
            <p:cNvCxnSpPr>
              <a:stCxn id="251" idx="3"/>
              <a:endCxn id="249" idx="2"/>
            </p:cNvCxnSpPr>
            <p:nvPr/>
          </p:nvCxnSpPr>
          <p:spPr>
            <a:xfrm flipV="1">
              <a:off x="3080520" y="1613160"/>
              <a:ext cx="484200" cy="635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52" name="_s40965"/>
            <p:cNvCxnSpPr>
              <a:stCxn id="253" idx="1"/>
              <a:endCxn id="254" idx="2"/>
            </p:cNvCxnSpPr>
            <p:nvPr/>
          </p:nvCxnSpPr>
          <p:spPr>
            <a:xfrm rot="10800000">
              <a:off x="1632240" y="3511080"/>
              <a:ext cx="484200" cy="15804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55" name="_s40966"/>
            <p:cNvCxnSpPr>
              <a:stCxn id="256" idx="1"/>
              <a:endCxn id="254" idx="2"/>
            </p:cNvCxnSpPr>
            <p:nvPr/>
          </p:nvCxnSpPr>
          <p:spPr>
            <a:xfrm rot="10800000">
              <a:off x="1632240" y="3511080"/>
              <a:ext cx="484200" cy="6332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57" name="_s40967"/>
            <p:cNvCxnSpPr>
              <a:stCxn id="254" idx="0"/>
              <a:endCxn id="249" idx="2"/>
            </p:cNvCxnSpPr>
            <p:nvPr/>
          </p:nvCxnSpPr>
          <p:spPr>
            <a:xfrm flipH="1" flipV="1" rot="5400000">
              <a:off x="1965600" y="1279800"/>
              <a:ext cx="1266120" cy="1932120"/>
            </a:xfrm>
            <a:prstGeom prst="bentConnector3">
              <a:avLst>
                <a:gd name="adj1" fmla="val 9015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49" name="_s40968"/>
            <p:cNvSpPr/>
            <p:nvPr/>
          </p:nvSpPr>
          <p:spPr>
            <a:xfrm>
              <a:off x="2113560" y="981000"/>
              <a:ext cx="2901600" cy="632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Vrchní  ředite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40969"/>
            <p:cNvSpPr/>
            <p:nvPr/>
          </p:nvSpPr>
          <p:spPr>
            <a:xfrm>
              <a:off x="182160" y="2879280"/>
              <a:ext cx="2901600" cy="632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90/7 Odbor veřejné doprav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_s40970"/>
            <p:cNvSpPr/>
            <p:nvPr/>
          </p:nvSpPr>
          <p:spPr>
            <a:xfrm>
              <a:off x="2116800" y="3828240"/>
              <a:ext cx="2898720" cy="63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1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Odd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ě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lení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státní správ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_s40971"/>
            <p:cNvSpPr/>
            <p:nvPr/>
          </p:nvSpPr>
          <p:spPr>
            <a:xfrm>
              <a:off x="2116800" y="4775400"/>
              <a:ext cx="2898720" cy="630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92 Oddělení koncepce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 strategi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_s40973"/>
            <p:cNvSpPr/>
            <p:nvPr/>
          </p:nvSpPr>
          <p:spPr>
            <a:xfrm>
              <a:off x="179280" y="1929960"/>
              <a:ext cx="2901600" cy="632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kretariát vrchního ředite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_s40975"/>
            <p:cNvSpPr/>
            <p:nvPr/>
          </p:nvSpPr>
          <p:spPr>
            <a:xfrm>
              <a:off x="4048200" y="2879280"/>
              <a:ext cx="2901600" cy="63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20/7 Odbor strategi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_s40977"/>
            <p:cNvSpPr/>
            <p:nvPr/>
          </p:nvSpPr>
          <p:spPr>
            <a:xfrm>
              <a:off x="5982840" y="3828240"/>
              <a:ext cx="2901600" cy="63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21 Oddělení dopravní politik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_s40979"/>
            <p:cNvSpPr/>
            <p:nvPr/>
          </p:nvSpPr>
          <p:spPr>
            <a:xfrm>
              <a:off x="5982840" y="4775400"/>
              <a:ext cx="2901600" cy="630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22 Oddělení územního plán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_s40981"/>
            <p:cNvSpPr/>
            <p:nvPr/>
          </p:nvSpPr>
          <p:spPr>
            <a:xfrm>
              <a:off x="5982840" y="5722200"/>
              <a:ext cx="2901600" cy="63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23 Oddělení technické politik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kce 700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kce strategie, veřejné dopravy a ekolog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948360" y="306864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164360" y="2852640"/>
            <a:ext cx="158436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1 příspěvková organiza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Centrum dopravního výzkum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09:39:14Z</dcterms:created>
  <dc:creator>XXXXX;XXXXX;XXXXX</dc:creator>
  <dc:description/>
  <dc:language>en-US</dc:language>
  <cp:lastModifiedBy>Ing. Stanislav Bočánek; O410; 225131401</cp:lastModifiedBy>
  <dcterms:modified xsi:type="dcterms:W3CDTF">2007-03-05T15:28:07Z</dcterms:modified>
  <cp:revision>241</cp:revision>
  <dc:subject/>
  <dc:title>Snímek 1</dc:title>
</cp:coreProperties>
</file>